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3.png" ContentType="image/png"/>
  <Override PartName="/ppt/media/image11.wmf" ContentType="image/x-wmf"/>
  <Override PartName="/ppt/media/image26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28.png" ContentType="image/png"/>
  <Override PartName="/ppt/media/image30.png" ContentType="image/png"/>
  <Override PartName="/ppt/media/image13.wmf" ContentType="image/x-wmf"/>
  <Override PartName="/ppt/media/image9.wmf" ContentType="image/x-wmf"/>
  <Override PartName="/ppt/media/image8.wmf" ContentType="image/x-wmf"/>
  <Override PartName="/ppt/media/image33.jpeg" ContentType="image/jpeg"/>
  <Override PartName="/ppt/media/image5.wmf" ContentType="image/x-wmf"/>
  <Override PartName="/ppt/media/image4.wmf" ContentType="image/x-wmf"/>
  <Override PartName="/ppt/media/image27.wmf" ContentType="image/x-wmf"/>
  <Override PartName="/ppt/media/image14.wmf" ContentType="image/x-wmf"/>
  <Override PartName="/ppt/media/image29.png" ContentType="image/png"/>
  <Override PartName="/ppt/media/image31.png" ContentType="image/png"/>
  <Override PartName="/ppt/media/image1.png" ContentType="image/png"/>
  <Override PartName="/ppt/media/image15.wmf" ContentType="image/x-wmf"/>
  <Override PartName="/ppt/media/image16.wmf" ContentType="image/x-wmf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7C33D-53BB-4F6B-9B2B-4C6E6139A3E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askdjsa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531C-F518-4744-AC3C-0FAF9B7D3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5EC3-AA9A-4EE2-8D49-912A25697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0705-C410-43C7-90A8-DAC336D73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60C3-B5B5-4749-98CB-2F5BE9D11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E073-F55C-4E2B-AEF5-0626E8809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3D90-9DAF-4B05-8C0A-340B6F250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BC51-038B-4E73-A8B8-E8F4A4FD7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C81B-E764-4DE3-81E4-B0841274A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19E4-6A82-4064-888C-6949DC309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C8C5-BF97-4762-8AD9-835ABA4A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51C0-488C-47EB-9111-6AF00DE0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D314-E4C9-4D98-9FD2-18ABE5C2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AD337-9FAA-4AF9-AFEE-4AFA1536DDC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1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6.wmf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23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2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5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1.pn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image" Target="../media/image2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0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DNA" descr=""/>
          <p:cNvPicPr/>
          <p:nvPr/>
        </p:nvPicPr>
        <p:blipFill>
          <a:blip r:embed="rId2"/>
          <a:stretch/>
        </p:blipFill>
        <p:spPr>
          <a:xfrm>
            <a:off x="3886200" y="3581280"/>
            <a:ext cx="1351080" cy="22100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1447920" y="762120"/>
            <a:ext cx="6476760" cy="23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A Novel Approach to DNA Detection using SER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Ljiljana Fru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DNA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" cy="1371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914400" y="8380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ifferent spectra obtained when different dienes used with the same dye maleimide – great possibilities for multiplex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71468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80880" y="3962520"/>
          <a:ext cx="3886200" cy="2414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3962520"/>
                    <a:ext cx="3886200" cy="24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3990960" y="25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57440" y="17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6208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495680" y="3962520"/>
          <a:ext cx="4648320" cy="25146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95680" y="3962520"/>
                    <a:ext cx="464832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7238880" y="3429000"/>
          <a:ext cx="1600200" cy="1441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238880" y="3429000"/>
                    <a:ext cx="1600200" cy="14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3581280" y="30481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BT dye maleim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57200" y="3429000"/>
          <a:ext cx="1676520" cy="1509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" y="3429000"/>
                    <a:ext cx="1676520" cy="15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3733920" y="1752480"/>
          <a:ext cx="1766880" cy="1316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733920" y="1752480"/>
                    <a:ext cx="1766880" cy="13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5715000" y="3200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Oligo fur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00200" y="3200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Oligo butadie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514240" y="3200400"/>
            <a:ext cx="11430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10080" y="3200400"/>
            <a:ext cx="114300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RRS subst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1600200"/>
            <a:ext cx="5257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inly us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lver coll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producibility in the short period of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me (age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3962520"/>
            <a:ext cx="7162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ld deposited silver fil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ughness lost with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susceptible to da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DNA" descr=""/>
          <p:cNvPicPr/>
          <p:nvPr/>
        </p:nvPicPr>
        <p:blipFill>
          <a:blip r:embed="rId4"/>
          <a:stretch/>
        </p:blipFill>
        <p:spPr>
          <a:xfrm>
            <a:off x="0" y="15228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71600" y="60948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g-PVA dis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90720" y="1600200"/>
            <a:ext cx="7010280" cy="17524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22520" y="243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1981080"/>
            <a:ext cx="624852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g N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olyvinylalcohol (PVA) solution (5% in 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pin coated on the glass discs, dried and reduced with saturated FeS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olu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90720" y="4114800"/>
            <a:ext cx="7391160" cy="11912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aps done to check the reproducibility of the signal over the larger area of the substrate. BT maleimide dye adsorbed on the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1143000" y="304920"/>
          <a:ext cx="2590920" cy="230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304920"/>
                    <a:ext cx="2590920" cy="23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 rot="5405400">
            <a:off x="2552760" y="3238560"/>
            <a:ext cx="838080" cy="1371600"/>
          </a:xfrm>
          <a:custGeom>
            <a:avLst/>
            <a:gdLst>
              <a:gd name="textAreaLeft" fmla="*/ 279360 w 838080"/>
              <a:gd name="textAreaRight" fmla="*/ 717840 w 838080"/>
              <a:gd name="textAreaTop" fmla="*/ 789840 h 1371600"/>
              <a:gd name="textAreaBottom" fmla="*/ 1175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2971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D m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809880" y="1676520"/>
            <a:ext cx="4616640" cy="3376440"/>
            <a:chOff x="3809880" y="1676520"/>
            <a:chExt cx="4616640" cy="3376440"/>
          </a:xfrm>
        </p:grpSpPr>
        <p:graphicFrame>
          <p:nvGraphicFramePr>
            <p:cNvPr id="181" name=""/>
            <p:cNvGraphicFramePr/>
            <p:nvPr/>
          </p:nvGraphicFramePr>
          <p:xfrm>
            <a:off x="3809880" y="1676520"/>
            <a:ext cx="3962520" cy="3376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8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809880" y="1676520"/>
                      <a:ext cx="3962520" cy="337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3" name=""/>
            <p:cNvGraphicFramePr/>
            <p:nvPr/>
          </p:nvGraphicFramePr>
          <p:xfrm>
            <a:off x="7772400" y="1676520"/>
            <a:ext cx="654120" cy="3352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772400" y="1676520"/>
                      <a:ext cx="65412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5" name=""/>
          <p:cNvSpPr/>
          <p:nvPr/>
        </p:nvSpPr>
        <p:spPr>
          <a:xfrm>
            <a:off x="3809880" y="228600"/>
            <a:ext cx="38102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14 nm la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3 accum, 3 sec, 400x400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DNA" descr=""/>
          <p:cNvPicPr/>
          <p:nvPr/>
        </p:nvPicPr>
        <p:blipFill>
          <a:blip r:embed="rId8"/>
          <a:stretch/>
        </p:blipFill>
        <p:spPr>
          <a:xfrm>
            <a:off x="0" y="228600"/>
            <a:ext cx="1066680" cy="13716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838080" y="54864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VA-Ag surface additionally investigated by Electron Microprobe – elemental analysis of the surf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447920" y="38088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RRS beac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19320" y="243828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ONE RING TO BIND THEM, ONE RING TO RULE THEM A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frodo" descr=""/>
          <p:cNvPicPr/>
          <p:nvPr/>
        </p:nvPicPr>
        <p:blipFill>
          <a:blip r:embed="rId2"/>
          <a:stretch/>
        </p:blipFill>
        <p:spPr>
          <a:xfrm>
            <a:off x="2666880" y="3886200"/>
            <a:ext cx="4191120" cy="336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1" name=""/>
          <p:cNvGraphicFramePr/>
          <p:nvPr/>
        </p:nvGraphicFramePr>
        <p:xfrm>
          <a:off x="3048120" y="1143000"/>
          <a:ext cx="3392280" cy="35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1143000"/>
                    <a:ext cx="3392280" cy="35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1066680" cy="13716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olecular Beac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784080" y="4648320"/>
            <a:ext cx="7543800" cy="521640"/>
            <a:chOff x="784080" y="4648320"/>
            <a:chExt cx="7543800" cy="521640"/>
          </a:xfrm>
        </p:grpSpPr>
        <p:sp>
          <p:nvSpPr>
            <p:cNvPr id="196" name=""/>
            <p:cNvSpPr/>
            <p:nvPr/>
          </p:nvSpPr>
          <p:spPr>
            <a:xfrm rot="16200000">
              <a:off x="4055400" y="48423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6200000">
              <a:off x="4244400" y="4725000"/>
              <a:ext cx="228240" cy="748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6200000">
              <a:off x="4359960" y="48423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16200000">
              <a:off x="4548960" y="472500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6200000">
              <a:off x="4664880" y="48423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6200000">
              <a:off x="4853880" y="480096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84080" y="4867200"/>
              <a:ext cx="7543800" cy="30276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538440" y="1407960"/>
            <a:ext cx="2057400" cy="2554920"/>
            <a:chOff x="3538440" y="1407960"/>
            <a:chExt cx="2057400" cy="2554920"/>
          </a:xfrm>
        </p:grpSpPr>
        <p:grpSp>
          <p:nvGrpSpPr>
            <p:cNvPr id="204" name=""/>
            <p:cNvGrpSpPr/>
            <p:nvPr/>
          </p:nvGrpSpPr>
          <p:grpSpPr>
            <a:xfrm>
              <a:off x="3538440" y="1407960"/>
              <a:ext cx="2057400" cy="2477880"/>
              <a:chOff x="3538440" y="1407960"/>
              <a:chExt cx="2057400" cy="2477880"/>
            </a:xfrm>
          </p:grpSpPr>
          <p:sp>
            <p:nvSpPr>
              <p:cNvPr id="205" name=""/>
              <p:cNvSpPr/>
              <p:nvPr/>
            </p:nvSpPr>
            <p:spPr>
              <a:xfrm rot="16200000">
                <a:off x="4035960" y="188460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16200000">
                <a:off x="4224960" y="176724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16200000">
                <a:off x="4340880" y="180684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16200000">
                <a:off x="4529520" y="17668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16200000">
                <a:off x="4645440" y="1806480"/>
                <a:ext cx="298440" cy="748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16200000">
                <a:off x="4834440" y="18432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636800" y="29653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560840" y="31176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560840" y="32698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636800" y="342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560840" y="357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636800" y="37270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344840" y="29653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268520" y="31176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268520" y="32698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344840" y="342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268520" y="357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344840" y="37270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538440" y="1407960"/>
                <a:ext cx="2057400" cy="1752480"/>
              </a:xfrm>
              <a:prstGeom prst="blockArc">
                <a:avLst>
                  <a:gd name="adj1" fmla="val 6773535"/>
                  <a:gd name="adj2" fmla="val 4026465"/>
                  <a:gd name="adj3" fmla="val 15097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5400000">
                <a:off x="3678840" y="3213720"/>
                <a:ext cx="1028880" cy="3031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5400000">
                <a:off x="4418280" y="3219840"/>
                <a:ext cx="1028520" cy="3034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4919760" y="3625560"/>
              <a:ext cx="342720" cy="337320"/>
              <a:chOff x="4919760" y="3625560"/>
              <a:chExt cx="342720" cy="337320"/>
            </a:xfrm>
          </p:grpSpPr>
          <p:sp>
            <p:nvSpPr>
              <p:cNvPr id="227" name=""/>
              <p:cNvSpPr/>
              <p:nvPr/>
            </p:nvSpPr>
            <p:spPr>
              <a:xfrm>
                <a:off x="4932360" y="364788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919760" y="36255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3919680" y="3625560"/>
              <a:ext cx="342720" cy="337320"/>
              <a:chOff x="3919680" y="3625560"/>
              <a:chExt cx="342720" cy="337320"/>
            </a:xfrm>
          </p:grpSpPr>
          <p:sp>
            <p:nvSpPr>
              <p:cNvPr id="230" name=""/>
              <p:cNvSpPr/>
              <p:nvPr/>
            </p:nvSpPr>
            <p:spPr>
              <a:xfrm>
                <a:off x="3919680" y="3647880"/>
                <a:ext cx="318600" cy="31428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919680" y="36255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3417840" y="1909800"/>
            <a:ext cx="2323800" cy="1900800"/>
            <a:chOff x="3417840" y="1909800"/>
            <a:chExt cx="2323800" cy="1900800"/>
          </a:xfrm>
        </p:grpSpPr>
        <p:grpSp>
          <p:nvGrpSpPr>
            <p:cNvPr id="233" name=""/>
            <p:cNvGrpSpPr/>
            <p:nvPr/>
          </p:nvGrpSpPr>
          <p:grpSpPr>
            <a:xfrm>
              <a:off x="3529080" y="1909800"/>
              <a:ext cx="2058480" cy="1828080"/>
              <a:chOff x="3529080" y="1909800"/>
              <a:chExt cx="2058480" cy="1828080"/>
            </a:xfrm>
          </p:grpSpPr>
          <p:sp>
            <p:nvSpPr>
              <p:cNvPr id="234" name=""/>
              <p:cNvSpPr/>
              <p:nvPr/>
            </p:nvSpPr>
            <p:spPr>
              <a:xfrm rot="16200000">
                <a:off x="4026600" y="233244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6200000">
                <a:off x="4215600" y="221472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6200000">
                <a:off x="4331520" y="225468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6200000">
                <a:off x="4520520" y="2214720"/>
                <a:ext cx="22824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6200000">
                <a:off x="4636440" y="2254680"/>
                <a:ext cx="298080" cy="748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16200000">
                <a:off x="4825080" y="229104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529080" y="1909800"/>
                <a:ext cx="2057400" cy="1752480"/>
              </a:xfrm>
              <a:prstGeom prst="blockArc">
                <a:avLst>
                  <a:gd name="adj1" fmla="val 11000679"/>
                  <a:gd name="adj2" fmla="val 21399321"/>
                  <a:gd name="adj3" fmla="val 14292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41" name=""/>
              <p:cNvGrpSpPr/>
              <p:nvPr/>
            </p:nvGrpSpPr>
            <p:grpSpPr>
              <a:xfrm>
                <a:off x="3529080" y="2709720"/>
                <a:ext cx="531720" cy="1028160"/>
                <a:chOff x="3529080" y="2709720"/>
                <a:chExt cx="531720" cy="102816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3832200" y="282348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3755880" y="29757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755880" y="31284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3832200" y="328068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755880" y="34329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3832200" y="35856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rot="5400000">
                  <a:off x="3166560" y="3072240"/>
                  <a:ext cx="102816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5064120" y="2709720"/>
                <a:ext cx="523440" cy="1028160"/>
                <a:chOff x="5064120" y="2709720"/>
                <a:chExt cx="523440" cy="102816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5140080" y="281736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5064120" y="29696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5064120" y="312228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5140080" y="32742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064120" y="34264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5140080" y="3579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rot="5400000">
                  <a:off x="4921560" y="3071880"/>
                  <a:ext cx="102816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7" name=""/>
            <p:cNvGrpSpPr/>
            <p:nvPr/>
          </p:nvGrpSpPr>
          <p:grpSpPr>
            <a:xfrm>
              <a:off x="3417840" y="3473280"/>
              <a:ext cx="342720" cy="337320"/>
              <a:chOff x="3417840" y="3473280"/>
              <a:chExt cx="342720" cy="337320"/>
            </a:xfrm>
          </p:grpSpPr>
          <p:sp>
            <p:nvSpPr>
              <p:cNvPr id="258" name=""/>
              <p:cNvSpPr/>
              <p:nvPr/>
            </p:nvSpPr>
            <p:spPr>
              <a:xfrm>
                <a:off x="3417840" y="3495240"/>
                <a:ext cx="318600" cy="31392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417840" y="347328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5398920" y="3473280"/>
              <a:ext cx="342720" cy="337320"/>
              <a:chOff x="5398920" y="3473280"/>
              <a:chExt cx="342720" cy="337320"/>
            </a:xfrm>
          </p:grpSpPr>
          <p:sp>
            <p:nvSpPr>
              <p:cNvPr id="261" name=""/>
              <p:cNvSpPr/>
              <p:nvPr/>
            </p:nvSpPr>
            <p:spPr>
              <a:xfrm>
                <a:off x="5411520" y="3495240"/>
                <a:ext cx="318960" cy="31392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398920" y="347328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3" name=""/>
          <p:cNvGrpSpPr/>
          <p:nvPr/>
        </p:nvGrpSpPr>
        <p:grpSpPr>
          <a:xfrm>
            <a:off x="3112920" y="2362320"/>
            <a:ext cx="3009600" cy="1752480"/>
            <a:chOff x="3112920" y="2362320"/>
            <a:chExt cx="3009600" cy="1752480"/>
          </a:xfrm>
        </p:grpSpPr>
        <p:grpSp>
          <p:nvGrpSpPr>
            <p:cNvPr id="264" name=""/>
            <p:cNvGrpSpPr/>
            <p:nvPr/>
          </p:nvGrpSpPr>
          <p:grpSpPr>
            <a:xfrm>
              <a:off x="3204720" y="2362320"/>
              <a:ext cx="2772000" cy="1752480"/>
              <a:chOff x="3204720" y="2362320"/>
              <a:chExt cx="2772000" cy="1752480"/>
            </a:xfrm>
          </p:grpSpPr>
          <p:sp>
            <p:nvSpPr>
              <p:cNvPr id="265" name=""/>
              <p:cNvSpPr/>
              <p:nvPr/>
            </p:nvSpPr>
            <p:spPr>
              <a:xfrm rot="16200000">
                <a:off x="4037400" y="2785320"/>
                <a:ext cx="298080" cy="7416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6200000">
                <a:off x="4226040" y="266724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6200000">
                <a:off x="4341960" y="270720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6200000">
                <a:off x="4530960" y="2667600"/>
                <a:ext cx="228240" cy="7416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6200000">
                <a:off x="4646880" y="2707560"/>
                <a:ext cx="298080" cy="7416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6200000">
                <a:off x="4835880" y="2743920"/>
                <a:ext cx="228240" cy="7416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539520" y="2362320"/>
                <a:ext cx="2057040" cy="1752480"/>
              </a:xfrm>
              <a:prstGeom prst="blockArc">
                <a:avLst>
                  <a:gd name="adj1" fmla="val 12222482"/>
                  <a:gd name="adj2" fmla="val 20177518"/>
                  <a:gd name="adj3" fmla="val 14861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3204720" y="2831040"/>
                <a:ext cx="870120" cy="1086480"/>
                <a:chOff x="3204720" y="2831040"/>
                <a:chExt cx="870120" cy="1086480"/>
              </a:xfrm>
            </p:grpSpPr>
            <p:sp>
              <p:nvSpPr>
                <p:cNvPr id="273" name=""/>
                <p:cNvSpPr/>
                <p:nvPr/>
              </p:nvSpPr>
              <p:spPr>
                <a:xfrm rot="1512000">
                  <a:off x="3841200" y="31086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rot="1512000">
                  <a:off x="3707280" y="321372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rot="1512000">
                  <a:off x="3642480" y="33519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rot="1512000">
                  <a:off x="3646440" y="35222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rot="1512000">
                  <a:off x="3512880" y="362736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rot="1512000">
                  <a:off x="3516840" y="37980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rot="6912600">
                  <a:off x="3045960" y="3209400"/>
                  <a:ext cx="1028520" cy="30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5138640" y="2833200"/>
                <a:ext cx="838080" cy="1046520"/>
                <a:chOff x="5138640" y="2833200"/>
                <a:chExt cx="838080" cy="1046520"/>
              </a:xfrm>
            </p:grpSpPr>
            <p:sp>
              <p:nvSpPr>
                <p:cNvPr id="281" name=""/>
                <p:cNvSpPr/>
                <p:nvPr/>
              </p:nvSpPr>
              <p:spPr>
                <a:xfrm rot="19857000">
                  <a:off x="5142240" y="3084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rot="19857000">
                  <a:off x="5149800" y="32540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rot="19857000">
                  <a:off x="5223960" y="338724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rot="19857000">
                  <a:off x="5364000" y="34837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rot="19857000">
                  <a:off x="5371560" y="36536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rot="19857000">
                  <a:off x="5512320" y="3750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rot="3657000">
                  <a:off x="5079960" y="3204360"/>
                  <a:ext cx="102852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8" name=""/>
            <p:cNvGrpSpPr/>
            <p:nvPr/>
          </p:nvGrpSpPr>
          <p:grpSpPr>
            <a:xfrm>
              <a:off x="3112920" y="3587760"/>
              <a:ext cx="342720" cy="337320"/>
              <a:chOff x="3112920" y="3587760"/>
              <a:chExt cx="342720" cy="337320"/>
            </a:xfrm>
          </p:grpSpPr>
          <p:sp>
            <p:nvSpPr>
              <p:cNvPr id="289" name=""/>
              <p:cNvSpPr/>
              <p:nvPr/>
            </p:nvSpPr>
            <p:spPr>
              <a:xfrm>
                <a:off x="3112920" y="3610080"/>
                <a:ext cx="318600" cy="31428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112920" y="35877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5779800" y="3511440"/>
              <a:ext cx="342720" cy="337320"/>
              <a:chOff x="5779800" y="3511440"/>
              <a:chExt cx="342720" cy="337320"/>
            </a:xfrm>
          </p:grpSpPr>
          <p:sp>
            <p:nvSpPr>
              <p:cNvPr id="292" name=""/>
              <p:cNvSpPr/>
              <p:nvPr/>
            </p:nvSpPr>
            <p:spPr>
              <a:xfrm>
                <a:off x="5792400" y="353376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779800" y="351144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4" name=""/>
          <p:cNvGrpSpPr/>
          <p:nvPr/>
        </p:nvGrpSpPr>
        <p:grpSpPr>
          <a:xfrm>
            <a:off x="2362320" y="3809880"/>
            <a:ext cx="4381200" cy="1752480"/>
            <a:chOff x="2362320" y="3809880"/>
            <a:chExt cx="4381200" cy="1752480"/>
          </a:xfrm>
        </p:grpSpPr>
        <p:grpSp>
          <p:nvGrpSpPr>
            <p:cNvPr id="295" name=""/>
            <p:cNvGrpSpPr/>
            <p:nvPr/>
          </p:nvGrpSpPr>
          <p:grpSpPr>
            <a:xfrm>
              <a:off x="2483640" y="3809880"/>
              <a:ext cx="4162320" cy="1752480"/>
              <a:chOff x="2483640" y="3809880"/>
              <a:chExt cx="4162320" cy="1752480"/>
            </a:xfrm>
          </p:grpSpPr>
          <p:sp>
            <p:nvSpPr>
              <p:cNvPr id="296" name=""/>
              <p:cNvSpPr/>
              <p:nvPr/>
            </p:nvSpPr>
            <p:spPr>
              <a:xfrm rot="16200000">
                <a:off x="4053600" y="418644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6200000">
                <a:off x="4242600" y="406908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6200000">
                <a:off x="4358520" y="410868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6200000">
                <a:off x="4547160" y="406872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6200000">
                <a:off x="4663080" y="410868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6200000">
                <a:off x="4852080" y="41454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576520" y="3809880"/>
                <a:ext cx="3962160" cy="1752480"/>
              </a:xfrm>
              <a:prstGeom prst="blockArc">
                <a:avLst>
                  <a:gd name="adj1" fmla="val 14424157"/>
                  <a:gd name="adj2" fmla="val 17975843"/>
                  <a:gd name="adj3" fmla="val 15208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03" name=""/>
              <p:cNvGrpSpPr/>
              <p:nvPr/>
            </p:nvGrpSpPr>
            <p:grpSpPr>
              <a:xfrm>
                <a:off x="2483640" y="3871080"/>
                <a:ext cx="1390320" cy="767880"/>
                <a:chOff x="2483640" y="3871080"/>
                <a:chExt cx="1390320" cy="767880"/>
              </a:xfrm>
            </p:grpSpPr>
            <p:sp>
              <p:nvSpPr>
                <p:cNvPr id="304" name=""/>
                <p:cNvSpPr/>
                <p:nvPr/>
              </p:nvSpPr>
              <p:spPr>
                <a:xfrm rot="4734000">
                  <a:off x="3308760" y="43358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rot="4734000">
                  <a:off x="3145320" y="428976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rot="4734000">
                  <a:off x="2995920" y="43200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rot="4734000">
                  <a:off x="2860920" y="44229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rot="4734000">
                  <a:off x="2696040" y="43772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rot="4734000">
                  <a:off x="2561040" y="44820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rot="10134000">
                  <a:off x="2500200" y="3998520"/>
                  <a:ext cx="13572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5241240" y="3861360"/>
                <a:ext cx="1404720" cy="755280"/>
                <a:chOff x="5241240" y="3861360"/>
                <a:chExt cx="1404720" cy="755280"/>
              </a:xfrm>
            </p:grpSpPr>
            <p:sp>
              <p:nvSpPr>
                <p:cNvPr id="312" name=""/>
                <p:cNvSpPr/>
                <p:nvPr/>
              </p:nvSpPr>
              <p:spPr>
                <a:xfrm rot="16936200">
                  <a:off x="5598000" y="425448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rot="16936200">
                  <a:off x="5730120" y="43614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rot="16936200">
                  <a:off x="5879160" y="43945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rot="16936200">
                  <a:off x="6044400" y="4351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rot="16936200">
                  <a:off x="6177600" y="4459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rot="16936200">
                  <a:off x="6342840" y="44168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rot="736200">
                  <a:off x="5257800" y="4003560"/>
                  <a:ext cx="13716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9" name=""/>
            <p:cNvGrpSpPr/>
            <p:nvPr/>
          </p:nvGrpSpPr>
          <p:grpSpPr>
            <a:xfrm>
              <a:off x="2362320" y="3900600"/>
              <a:ext cx="347760" cy="337320"/>
              <a:chOff x="2362320" y="3900600"/>
              <a:chExt cx="347760" cy="337320"/>
            </a:xfrm>
          </p:grpSpPr>
          <p:sp>
            <p:nvSpPr>
              <p:cNvPr id="320" name=""/>
              <p:cNvSpPr/>
              <p:nvPr/>
            </p:nvSpPr>
            <p:spPr>
              <a:xfrm>
                <a:off x="2362320" y="392292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39ff39"/>
                  </a:gs>
                  <a:gs pos="100000">
                    <a:srgbClr val="00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367000" y="3900600"/>
                <a:ext cx="34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6400800" y="3900600"/>
              <a:ext cx="342720" cy="337320"/>
              <a:chOff x="6400800" y="3900600"/>
              <a:chExt cx="342720" cy="337320"/>
            </a:xfrm>
          </p:grpSpPr>
          <p:sp>
            <p:nvSpPr>
              <p:cNvPr id="323" name=""/>
              <p:cNvSpPr/>
              <p:nvPr/>
            </p:nvSpPr>
            <p:spPr>
              <a:xfrm>
                <a:off x="6413400" y="392292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400800" y="390060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5" name=""/>
          <p:cNvGrpSpPr/>
          <p:nvPr/>
        </p:nvGrpSpPr>
        <p:grpSpPr>
          <a:xfrm>
            <a:off x="2844720" y="2819520"/>
            <a:ext cx="3467160" cy="1752480"/>
            <a:chOff x="2844720" y="2819520"/>
            <a:chExt cx="3467160" cy="1752480"/>
          </a:xfrm>
        </p:grpSpPr>
        <p:grpSp>
          <p:nvGrpSpPr>
            <p:cNvPr id="326" name=""/>
            <p:cNvGrpSpPr/>
            <p:nvPr/>
          </p:nvGrpSpPr>
          <p:grpSpPr>
            <a:xfrm>
              <a:off x="2960280" y="2819520"/>
              <a:ext cx="3198960" cy="1752480"/>
              <a:chOff x="2960280" y="2819520"/>
              <a:chExt cx="3198960" cy="1752480"/>
            </a:xfrm>
          </p:grpSpPr>
          <p:sp>
            <p:nvSpPr>
              <p:cNvPr id="327" name=""/>
              <p:cNvSpPr/>
              <p:nvPr/>
            </p:nvSpPr>
            <p:spPr>
              <a:xfrm rot="16200000">
                <a:off x="4039560" y="324216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16200000">
                <a:off x="4228560" y="312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16200000">
                <a:off x="4344480" y="316440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16200000">
                <a:off x="4533480" y="312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16200000">
                <a:off x="4649040" y="3164040"/>
                <a:ext cx="298440" cy="748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16200000">
                <a:off x="4838040" y="32011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324600" y="2819520"/>
                <a:ext cx="2420640" cy="1752480"/>
              </a:xfrm>
              <a:prstGeom prst="blockArc">
                <a:avLst>
                  <a:gd name="adj1" fmla="val 13102124"/>
                  <a:gd name="adj2" fmla="val 19297876"/>
                  <a:gd name="adj3" fmla="val 15417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34" name=""/>
              <p:cNvGrpSpPr/>
              <p:nvPr/>
            </p:nvGrpSpPr>
            <p:grpSpPr>
              <a:xfrm>
                <a:off x="2960280" y="3144240"/>
                <a:ext cx="1008360" cy="1061280"/>
                <a:chOff x="2960280" y="3144240"/>
                <a:chExt cx="1008360" cy="1061280"/>
              </a:xfrm>
            </p:grpSpPr>
            <p:sp>
              <p:nvSpPr>
                <p:cNvPr id="335" name=""/>
                <p:cNvSpPr/>
                <p:nvPr/>
              </p:nvSpPr>
              <p:spPr>
                <a:xfrm rot="2533800">
                  <a:off x="3744720" y="34995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rot="2533800">
                  <a:off x="3585600" y="356076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rot="2533800">
                  <a:off x="3483360" y="3673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rot="2533800">
                  <a:off x="3437640" y="38379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rot="2533800">
                  <a:off x="3278520" y="389952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rot="2533800">
                  <a:off x="3232800" y="4063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rot="7933800">
                  <a:off x="2903760" y="3475080"/>
                  <a:ext cx="102852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5176440" y="3118680"/>
                <a:ext cx="982800" cy="965160"/>
                <a:chOff x="5176440" y="3118680"/>
                <a:chExt cx="982800" cy="965160"/>
              </a:xfrm>
            </p:grpSpPr>
            <p:sp>
              <p:nvSpPr>
                <p:cNvPr id="343" name=""/>
                <p:cNvSpPr/>
                <p:nvPr/>
              </p:nvSpPr>
              <p:spPr>
                <a:xfrm rot="18729600">
                  <a:off x="5166000" y="34254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rot="18729600">
                  <a:off x="5228280" y="3583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rot="18729600">
                  <a:off x="5340960" y="36864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rot="18729600">
                  <a:off x="5504760" y="3732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 rot="18729600">
                  <a:off x="5567040" y="38905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rot="18729600">
                  <a:off x="5730840" y="393696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rot="2529600">
                  <a:off x="5161680" y="3424320"/>
                  <a:ext cx="102852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0" name=""/>
            <p:cNvGrpSpPr/>
            <p:nvPr/>
          </p:nvGrpSpPr>
          <p:grpSpPr>
            <a:xfrm>
              <a:off x="2844720" y="3701880"/>
              <a:ext cx="343080" cy="337320"/>
              <a:chOff x="2844720" y="3701880"/>
              <a:chExt cx="343080" cy="337320"/>
            </a:xfrm>
          </p:grpSpPr>
          <p:sp>
            <p:nvSpPr>
              <p:cNvPr id="351" name=""/>
              <p:cNvSpPr/>
              <p:nvPr/>
            </p:nvSpPr>
            <p:spPr>
              <a:xfrm>
                <a:off x="2844720" y="372420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844720" y="3701880"/>
                <a:ext cx="34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5969160" y="3581280"/>
              <a:ext cx="342720" cy="337320"/>
              <a:chOff x="5969160" y="3581280"/>
              <a:chExt cx="342720" cy="337320"/>
            </a:xfrm>
          </p:grpSpPr>
          <p:sp>
            <p:nvSpPr>
              <p:cNvPr id="354" name=""/>
              <p:cNvSpPr/>
              <p:nvPr/>
            </p:nvSpPr>
            <p:spPr>
              <a:xfrm>
                <a:off x="5981760" y="360360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969160" y="358128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6" name=""/>
          <p:cNvGrpSpPr/>
          <p:nvPr/>
        </p:nvGrpSpPr>
        <p:grpSpPr>
          <a:xfrm>
            <a:off x="2055960" y="2741400"/>
            <a:ext cx="4585680" cy="1974600"/>
            <a:chOff x="2055960" y="2741400"/>
            <a:chExt cx="4585680" cy="1974600"/>
          </a:xfrm>
        </p:grpSpPr>
        <p:grpSp>
          <p:nvGrpSpPr>
            <p:cNvPr id="357" name=""/>
            <p:cNvGrpSpPr/>
            <p:nvPr/>
          </p:nvGrpSpPr>
          <p:grpSpPr>
            <a:xfrm>
              <a:off x="2456640" y="2741400"/>
              <a:ext cx="4164120" cy="1974600"/>
              <a:chOff x="2456640" y="2741400"/>
              <a:chExt cx="4164120" cy="1974600"/>
            </a:xfrm>
          </p:grpSpPr>
          <p:sp>
            <p:nvSpPr>
              <p:cNvPr id="358" name=""/>
              <p:cNvSpPr/>
              <p:nvPr/>
            </p:nvSpPr>
            <p:spPr>
              <a:xfrm rot="16200000">
                <a:off x="4062960" y="452952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16200000">
                <a:off x="4251960" y="447552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16200000">
                <a:off x="4367880" y="4515120"/>
                <a:ext cx="29808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6200000">
                <a:off x="4556520" y="447552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6200000">
                <a:off x="4672440" y="451512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6200000">
                <a:off x="4861440" y="455148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V="1">
                <a:off x="2541240" y="2740680"/>
                <a:ext cx="3962520" cy="1752120"/>
              </a:xfrm>
              <a:prstGeom prst="blockArc">
                <a:avLst>
                  <a:gd name="adj1" fmla="val 14424157"/>
                  <a:gd name="adj2" fmla="val 17975843"/>
                  <a:gd name="adj3" fmla="val 15208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65" name=""/>
              <p:cNvGrpSpPr/>
              <p:nvPr/>
            </p:nvGrpSpPr>
            <p:grpSpPr>
              <a:xfrm>
                <a:off x="2456640" y="3852360"/>
                <a:ext cx="1390680" cy="710640"/>
                <a:chOff x="2456640" y="3852360"/>
                <a:chExt cx="1390680" cy="710640"/>
              </a:xfrm>
            </p:grpSpPr>
            <p:sp>
              <p:nvSpPr>
                <p:cNvPr id="366" name=""/>
                <p:cNvSpPr/>
                <p:nvPr/>
              </p:nvSpPr>
              <p:spPr>
                <a:xfrm rot="6124800">
                  <a:off x="3174480" y="44060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 rot="6124800">
                  <a:off x="3042360" y="429948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 rot="6124800">
                  <a:off x="2893320" y="42681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rot="6124800">
                  <a:off x="2728440" y="43099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rot="6124800">
                  <a:off x="2594880" y="42030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rot="6124800">
                  <a:off x="2429640" y="42462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 rot="11525400">
                  <a:off x="2473200" y="3990600"/>
                  <a:ext cx="1357200" cy="30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5220000" y="3747600"/>
                <a:ext cx="1400760" cy="723240"/>
                <a:chOff x="5220000" y="3747600"/>
                <a:chExt cx="1400760" cy="723240"/>
              </a:xfrm>
            </p:grpSpPr>
            <p:sp>
              <p:nvSpPr>
                <p:cNvPr id="374" name=""/>
                <p:cNvSpPr/>
                <p:nvPr/>
              </p:nvSpPr>
              <p:spPr>
                <a:xfrm rot="15196800">
                  <a:off x="5670000" y="428400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 rot="15196800">
                  <a:off x="5837040" y="43135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rot="15196800">
                  <a:off x="5983560" y="42703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rot="15196800">
                  <a:off x="6107040" y="41529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rot="15196800">
                  <a:off x="6275880" y="41828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rot="15196800">
                  <a:off x="6399720" y="40651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rot="20596800">
                  <a:off x="5234400" y="3938400"/>
                  <a:ext cx="1371600" cy="30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1" name=""/>
            <p:cNvGrpSpPr/>
            <p:nvPr/>
          </p:nvGrpSpPr>
          <p:grpSpPr>
            <a:xfrm>
              <a:off x="6298920" y="3547800"/>
              <a:ext cx="342720" cy="337320"/>
              <a:chOff x="6298920" y="3547800"/>
              <a:chExt cx="342720" cy="337320"/>
            </a:xfrm>
          </p:grpSpPr>
          <p:sp>
            <p:nvSpPr>
              <p:cNvPr id="382" name=""/>
              <p:cNvSpPr/>
              <p:nvPr/>
            </p:nvSpPr>
            <p:spPr>
              <a:xfrm>
                <a:off x="6311520" y="3569760"/>
                <a:ext cx="318960" cy="31392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298920" y="354780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2055960" y="3350880"/>
              <a:ext cx="966600" cy="972720"/>
              <a:chOff x="2055960" y="3350880"/>
              <a:chExt cx="966600" cy="972720"/>
            </a:xfrm>
          </p:grpSpPr>
          <p:sp>
            <p:nvSpPr>
              <p:cNvPr id="385" name=""/>
              <p:cNvSpPr/>
              <p:nvPr/>
            </p:nvSpPr>
            <p:spPr>
              <a:xfrm>
                <a:off x="2055960" y="3350880"/>
                <a:ext cx="966600" cy="972720"/>
              </a:xfrm>
              <a:prstGeom prst="sun">
                <a:avLst>
                  <a:gd name="adj" fmla="val 33333"/>
                </a:avLst>
              </a:prstGeom>
              <a:gradFill rotWithShape="0">
                <a:gsLst>
                  <a:gs pos="0">
                    <a:srgbClr val="39ff39"/>
                  </a:gs>
                  <a:gs pos="100000">
                    <a:srgbClr val="00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387520" y="3660120"/>
                <a:ext cx="34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7" name=""/>
          <p:cNvGrpSpPr/>
          <p:nvPr/>
        </p:nvGrpSpPr>
        <p:grpSpPr>
          <a:xfrm>
            <a:off x="2446200" y="3352680"/>
            <a:ext cx="4233600" cy="1752480"/>
            <a:chOff x="2446200" y="3352680"/>
            <a:chExt cx="4233600" cy="1752480"/>
          </a:xfrm>
        </p:grpSpPr>
        <p:grpSp>
          <p:nvGrpSpPr>
            <p:cNvPr id="388" name=""/>
            <p:cNvGrpSpPr/>
            <p:nvPr/>
          </p:nvGrpSpPr>
          <p:grpSpPr>
            <a:xfrm>
              <a:off x="2545920" y="3352680"/>
              <a:ext cx="4018320" cy="1752480"/>
              <a:chOff x="2545920" y="3352680"/>
              <a:chExt cx="4018320" cy="1752480"/>
            </a:xfrm>
          </p:grpSpPr>
          <p:sp>
            <p:nvSpPr>
              <p:cNvPr id="389" name=""/>
              <p:cNvSpPr/>
              <p:nvPr/>
            </p:nvSpPr>
            <p:spPr>
              <a:xfrm rot="16200000">
                <a:off x="4048560" y="369288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16200000">
                <a:off x="4237560" y="360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16200000">
                <a:off x="4353120" y="3641760"/>
                <a:ext cx="29844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16200000">
                <a:off x="4542120" y="360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16200000">
                <a:off x="4658040" y="364212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16200000">
                <a:off x="4847040" y="367848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571480" y="3352680"/>
                <a:ext cx="3962160" cy="1752480"/>
              </a:xfrm>
              <a:prstGeom prst="blockArc">
                <a:avLst>
                  <a:gd name="adj1" fmla="val 14424157"/>
                  <a:gd name="adj2" fmla="val 17975843"/>
                  <a:gd name="adj3" fmla="val 15208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6" name=""/>
              <p:cNvGrpSpPr/>
              <p:nvPr/>
            </p:nvGrpSpPr>
            <p:grpSpPr>
              <a:xfrm>
                <a:off x="2545920" y="3396600"/>
                <a:ext cx="1337760" cy="1077120"/>
                <a:chOff x="2545920" y="3396600"/>
                <a:chExt cx="1337760" cy="1077120"/>
              </a:xfrm>
            </p:grpSpPr>
            <p:sp>
              <p:nvSpPr>
                <p:cNvPr id="397" name=""/>
                <p:cNvSpPr/>
                <p:nvPr/>
              </p:nvSpPr>
              <p:spPr>
                <a:xfrm rot="3694200">
                  <a:off x="3399840" y="3955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rot="3694200">
                  <a:off x="3230280" y="396000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 rot="3694200">
                  <a:off x="3096360" y="4033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 rot="3694200">
                  <a:off x="2998080" y="41720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 rot="3694200">
                  <a:off x="2827080" y="41774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 rot="3694200">
                  <a:off x="2729520" y="43178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rot="9094200">
                  <a:off x="2535840" y="3701160"/>
                  <a:ext cx="13572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5221080" y="3424680"/>
                <a:ext cx="1343160" cy="1024560"/>
                <a:chOff x="5221080" y="3424680"/>
                <a:chExt cx="1343160" cy="1024560"/>
              </a:xfrm>
            </p:grpSpPr>
            <p:sp>
              <p:nvSpPr>
                <p:cNvPr id="405" name=""/>
                <p:cNvSpPr/>
                <p:nvPr/>
              </p:nvSpPr>
              <p:spPr>
                <a:xfrm rot="17967600">
                  <a:off x="5517360" y="391860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rot="17967600">
                  <a:off x="5611680" y="4059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rot="17967600">
                  <a:off x="5744160" y="41353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 rot="17967600">
                  <a:off x="5914800" y="41432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 rot="17967600">
                  <a:off x="6009840" y="4285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 rot="17967600">
                  <a:off x="6180480" y="4293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 rot="1767600">
                  <a:off x="5206680" y="3742200"/>
                  <a:ext cx="13716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2" name=""/>
            <p:cNvGrpSpPr/>
            <p:nvPr/>
          </p:nvGrpSpPr>
          <p:grpSpPr>
            <a:xfrm>
              <a:off x="6337080" y="3881160"/>
              <a:ext cx="342720" cy="337320"/>
              <a:chOff x="6337080" y="3881160"/>
              <a:chExt cx="342720" cy="337320"/>
            </a:xfrm>
          </p:grpSpPr>
          <p:sp>
            <p:nvSpPr>
              <p:cNvPr id="413" name=""/>
              <p:cNvSpPr/>
              <p:nvPr/>
            </p:nvSpPr>
            <p:spPr>
              <a:xfrm>
                <a:off x="6349680" y="390348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337080" y="38811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2446200" y="3805200"/>
              <a:ext cx="347040" cy="337320"/>
              <a:chOff x="2446200" y="3805200"/>
              <a:chExt cx="347040" cy="337320"/>
            </a:xfrm>
          </p:grpSpPr>
          <p:sp>
            <p:nvSpPr>
              <p:cNvPr id="416" name=""/>
              <p:cNvSpPr/>
              <p:nvPr/>
            </p:nvSpPr>
            <p:spPr>
              <a:xfrm>
                <a:off x="2446200" y="3827520"/>
                <a:ext cx="318600" cy="314280"/>
              </a:xfrm>
              <a:prstGeom prst="ellipse">
                <a:avLst/>
              </a:prstGeom>
              <a:gradFill rotWithShape="0">
                <a:gsLst>
                  <a:gs pos="0">
                    <a:srgbClr val="39ff39"/>
                  </a:gs>
                  <a:gs pos="100000">
                    <a:srgbClr val="00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450520" y="380520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8" name=""/>
          <p:cNvSpPr/>
          <p:nvPr/>
        </p:nvSpPr>
        <p:spPr>
          <a:xfrm>
            <a:off x="609480" y="54864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blem: residual fluorescence due to the insufficient quench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7200" y="198108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Quenchers (azo dyes): DABCYL, BH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705720" y="1066680"/>
            <a:ext cx="2209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pplication in genetics, disease diagnostics, new drug develop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7819920" y="4105440"/>
            <a:ext cx="308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621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SERRS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Beac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852480" y="4876920"/>
            <a:ext cx="7543800" cy="521640"/>
            <a:chOff x="852480" y="4876920"/>
            <a:chExt cx="7543800" cy="521640"/>
          </a:xfrm>
        </p:grpSpPr>
        <p:sp>
          <p:nvSpPr>
            <p:cNvPr id="424" name=""/>
            <p:cNvSpPr/>
            <p:nvPr/>
          </p:nvSpPr>
          <p:spPr>
            <a:xfrm rot="16200000">
              <a:off x="4123800" y="50709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16200000">
              <a:off x="4312800" y="4953600"/>
              <a:ext cx="228240" cy="748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16200000">
              <a:off x="4428360" y="50709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617360" y="495360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733280" y="50709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16200000">
              <a:off x="4922280" y="502956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52480" y="5095800"/>
              <a:ext cx="7543800" cy="30276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3415320" y="1536840"/>
            <a:ext cx="5003640" cy="2963880"/>
            <a:chOff x="3415320" y="1536840"/>
            <a:chExt cx="5003640" cy="2963880"/>
          </a:xfrm>
        </p:grpSpPr>
        <p:grpSp>
          <p:nvGrpSpPr>
            <p:cNvPr id="432" name=""/>
            <p:cNvGrpSpPr/>
            <p:nvPr/>
          </p:nvGrpSpPr>
          <p:grpSpPr>
            <a:xfrm>
              <a:off x="3415320" y="1536840"/>
              <a:ext cx="2826360" cy="2341800"/>
              <a:chOff x="3415320" y="1536840"/>
              <a:chExt cx="2826360" cy="2341800"/>
            </a:xfrm>
          </p:grpSpPr>
          <p:grpSp>
            <p:nvGrpSpPr>
              <p:cNvPr id="433" name=""/>
              <p:cNvGrpSpPr/>
              <p:nvPr/>
            </p:nvGrpSpPr>
            <p:grpSpPr>
              <a:xfrm>
                <a:off x="3415320" y="1536840"/>
                <a:ext cx="2718000" cy="2341800"/>
                <a:chOff x="3415320" y="1536840"/>
                <a:chExt cx="2718000" cy="2341800"/>
              </a:xfrm>
            </p:grpSpPr>
            <p:sp>
              <p:nvSpPr>
                <p:cNvPr id="434" name=""/>
                <p:cNvSpPr/>
                <p:nvPr/>
              </p:nvSpPr>
              <p:spPr>
                <a:xfrm rot="11429400">
                  <a:off x="3889080" y="298008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 rot="11429400">
                  <a:off x="3836880" y="28069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 rot="11429400">
                  <a:off x="3867840" y="266616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 rot="11429400">
                  <a:off x="3892320" y="250704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 rot="11429400">
                  <a:off x="3923280" y="2366280"/>
                  <a:ext cx="2984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 rot="11429400">
                  <a:off x="4022280" y="22215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 rot="16829400">
                  <a:off x="5089680" y="26204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 rot="16829400">
                  <a:off x="5225760" y="27230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 rot="16829400">
                  <a:off x="5375520" y="275040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 rot="16829400">
                  <a:off x="5539320" y="27036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 rot="16829400">
                  <a:off x="5675400" y="28062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rot="16829400">
                  <a:off x="5838840" y="275868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 rot="16829400">
                  <a:off x="5036760" y="2907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 rot="16829400">
                  <a:off x="5172480" y="30103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 rot="16829400">
                  <a:off x="5322240" y="303768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 rot="16829400">
                  <a:off x="5486040" y="29908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 rot="16829400">
                  <a:off x="5622120" y="30934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rot="16829400">
                  <a:off x="5785560" y="304596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 rot="16829400">
                  <a:off x="3435480" y="1831320"/>
                  <a:ext cx="2057400" cy="1752480"/>
                </a:xfrm>
                <a:prstGeom prst="blockArc">
                  <a:avLst>
                    <a:gd name="adj1" fmla="val 6773535"/>
                    <a:gd name="adj2" fmla="val 4026465"/>
                    <a:gd name="adj3" fmla="val 15097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 rot="629400">
                  <a:off x="4944600" y="3120840"/>
                  <a:ext cx="102888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 rot="629400">
                  <a:off x="5085720" y="2394720"/>
                  <a:ext cx="102852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5" name=""/>
              <p:cNvGrpSpPr/>
              <p:nvPr/>
            </p:nvGrpSpPr>
            <p:grpSpPr>
              <a:xfrm>
                <a:off x="5847480" y="2268360"/>
                <a:ext cx="394200" cy="398520"/>
                <a:chOff x="5847480" y="2268360"/>
                <a:chExt cx="394200" cy="398520"/>
              </a:xfrm>
            </p:grpSpPr>
            <p:sp>
              <p:nvSpPr>
                <p:cNvPr id="456" name=""/>
                <p:cNvSpPr/>
                <p:nvPr/>
              </p:nvSpPr>
              <p:spPr>
                <a:xfrm rot="16829400">
                  <a:off x="5895360" y="231156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 rot="16829400">
                  <a:off x="5873040" y="229860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5665320" y="3251880"/>
                <a:ext cx="394200" cy="398520"/>
                <a:chOff x="5665320" y="3251880"/>
                <a:chExt cx="394200" cy="398520"/>
              </a:xfrm>
            </p:grpSpPr>
            <p:sp>
              <p:nvSpPr>
                <p:cNvPr id="459" name=""/>
                <p:cNvSpPr/>
                <p:nvPr/>
              </p:nvSpPr>
              <p:spPr>
                <a:xfrm rot="16829400">
                  <a:off x="5711400" y="3307320"/>
                  <a:ext cx="31860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 rot="16829400">
                  <a:off x="5690880" y="328212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61" name=""/>
            <p:cNvSpPr/>
            <p:nvPr/>
          </p:nvSpPr>
          <p:spPr>
            <a:xfrm rot="20439600">
              <a:off x="5943600" y="220968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3362040" y="1905480"/>
            <a:ext cx="4649400" cy="2688840"/>
            <a:chOff x="3362040" y="1905480"/>
            <a:chExt cx="4649400" cy="2688840"/>
          </a:xfrm>
        </p:grpSpPr>
        <p:grpSp>
          <p:nvGrpSpPr>
            <p:cNvPr id="463" name=""/>
            <p:cNvGrpSpPr/>
            <p:nvPr/>
          </p:nvGrpSpPr>
          <p:grpSpPr>
            <a:xfrm>
              <a:off x="3362040" y="1905480"/>
              <a:ext cx="2543400" cy="2688840"/>
              <a:chOff x="3362040" y="1905480"/>
              <a:chExt cx="2543400" cy="2688840"/>
            </a:xfrm>
          </p:grpSpPr>
          <p:grpSp>
            <p:nvGrpSpPr>
              <p:cNvPr id="464" name=""/>
              <p:cNvGrpSpPr/>
              <p:nvPr/>
            </p:nvGrpSpPr>
            <p:grpSpPr>
              <a:xfrm>
                <a:off x="3362040" y="1905480"/>
                <a:ext cx="2422440" cy="2559240"/>
                <a:chOff x="3362040" y="1905480"/>
                <a:chExt cx="2422440" cy="2559240"/>
              </a:xfrm>
            </p:grpSpPr>
            <p:sp>
              <p:nvSpPr>
                <p:cNvPr id="465" name=""/>
                <p:cNvSpPr/>
                <p:nvPr/>
              </p:nvSpPr>
              <p:spPr>
                <a:xfrm rot="12001800">
                  <a:off x="3866760" y="335124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 rot="12001800">
                  <a:off x="3843720" y="31658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 rot="12001800">
                  <a:off x="3898080" y="303768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rot="12001800">
                  <a:off x="3947760" y="287928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rot="12001800">
                  <a:off x="4002120" y="2751480"/>
                  <a:ext cx="29808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 rot="12001800">
                  <a:off x="4124160" y="26193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 rot="17401800">
                  <a:off x="3508920" y="2295720"/>
                  <a:ext cx="2057400" cy="1752480"/>
                </a:xfrm>
                <a:prstGeom prst="blockArc">
                  <a:avLst>
                    <a:gd name="adj1" fmla="val 11000679"/>
                    <a:gd name="adj2" fmla="val 21399321"/>
                    <a:gd name="adj3" fmla="val 14292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2" name=""/>
                <p:cNvGrpSpPr/>
                <p:nvPr/>
              </p:nvGrpSpPr>
              <p:grpSpPr>
                <a:xfrm>
                  <a:off x="4113720" y="3651840"/>
                  <a:ext cx="1074600" cy="812880"/>
                  <a:chOff x="4113720" y="3651840"/>
                  <a:chExt cx="1074600" cy="81288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 rot="17401800">
                    <a:off x="4284000" y="37346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 rot="17401800">
                    <a:off x="4401000" y="38584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rot="17401800">
                    <a:off x="4544280" y="391068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 rot="17401800">
                    <a:off x="4713120" y="38912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 rot="17401800">
                    <a:off x="4830480" y="40150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 rot="17401800">
                    <a:off x="5000040" y="39956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 rot="1201800">
                    <a:off x="4134240" y="3994560"/>
                    <a:ext cx="102816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0" name=""/>
                <p:cNvGrpSpPr/>
                <p:nvPr/>
              </p:nvGrpSpPr>
              <p:grpSpPr>
                <a:xfrm>
                  <a:off x="4714560" y="2178360"/>
                  <a:ext cx="1069920" cy="763200"/>
                  <a:chOff x="4714560" y="2178360"/>
                  <a:chExt cx="1069920" cy="763200"/>
                </a:xfrm>
              </p:grpSpPr>
              <p:sp>
                <p:nvSpPr>
                  <p:cNvPr id="481" name=""/>
                  <p:cNvSpPr/>
                  <p:nvPr/>
                </p:nvSpPr>
                <p:spPr>
                  <a:xfrm rot="17401800">
                    <a:off x="4726080" y="25038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 rot="17401800">
                    <a:off x="4843080" y="26272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 rot="17401800">
                    <a:off x="4986720" y="267948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 rot="17401800">
                    <a:off x="5155560" y="26600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 rot="17401800">
                    <a:off x="5272560" y="27838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 rot="17401800">
                    <a:off x="5441760" y="27644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 rot="1201800">
                    <a:off x="4735440" y="2345040"/>
                    <a:ext cx="1028160" cy="303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8" name=""/>
              <p:cNvGrpSpPr/>
              <p:nvPr/>
            </p:nvGrpSpPr>
            <p:grpSpPr>
              <a:xfrm>
                <a:off x="4792680" y="4156920"/>
                <a:ext cx="434160" cy="437400"/>
                <a:chOff x="4792680" y="4156920"/>
                <a:chExt cx="434160" cy="437400"/>
              </a:xfrm>
            </p:grpSpPr>
            <p:sp>
              <p:nvSpPr>
                <p:cNvPr id="489" name=""/>
                <p:cNvSpPr/>
                <p:nvPr/>
              </p:nvSpPr>
              <p:spPr>
                <a:xfrm rot="17401800">
                  <a:off x="4855680" y="4232880"/>
                  <a:ext cx="31860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 rot="17401800">
                  <a:off x="4838400" y="420660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5471280" y="2295360"/>
                <a:ext cx="434160" cy="437400"/>
                <a:chOff x="5471280" y="2295360"/>
                <a:chExt cx="434160" cy="437400"/>
              </a:xfrm>
            </p:grpSpPr>
            <p:sp>
              <p:nvSpPr>
                <p:cNvPr id="492" name=""/>
                <p:cNvSpPr/>
                <p:nvPr/>
              </p:nvSpPr>
              <p:spPr>
                <a:xfrm rot="17401800">
                  <a:off x="5538960" y="235980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 rot="17401800">
                  <a:off x="5517000" y="234504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4" name=""/>
            <p:cNvSpPr/>
            <p:nvPr/>
          </p:nvSpPr>
          <p:spPr>
            <a:xfrm rot="20734200">
              <a:off x="5589720" y="217044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3334680" y="2068560"/>
            <a:ext cx="5160600" cy="2813400"/>
            <a:chOff x="3334680" y="2068560"/>
            <a:chExt cx="5160600" cy="2813400"/>
          </a:xfrm>
        </p:grpSpPr>
        <p:grpSp>
          <p:nvGrpSpPr>
            <p:cNvPr id="496" name=""/>
            <p:cNvGrpSpPr/>
            <p:nvPr/>
          </p:nvGrpSpPr>
          <p:grpSpPr>
            <a:xfrm>
              <a:off x="3334680" y="2068560"/>
              <a:ext cx="2980080" cy="2588040"/>
              <a:chOff x="3334680" y="2068560"/>
              <a:chExt cx="2980080" cy="2588040"/>
            </a:xfrm>
          </p:grpSpPr>
          <p:grpSp>
            <p:nvGrpSpPr>
              <p:cNvPr id="497" name=""/>
              <p:cNvGrpSpPr/>
              <p:nvPr/>
            </p:nvGrpSpPr>
            <p:grpSpPr>
              <a:xfrm>
                <a:off x="3334680" y="2068560"/>
                <a:ext cx="2795400" cy="2541240"/>
                <a:chOff x="3334680" y="2068560"/>
                <a:chExt cx="2795400" cy="2541240"/>
              </a:xfrm>
            </p:grpSpPr>
            <p:sp>
              <p:nvSpPr>
                <p:cNvPr id="498" name=""/>
                <p:cNvSpPr/>
                <p:nvPr/>
              </p:nvSpPr>
              <p:spPr>
                <a:xfrm rot="14418000">
                  <a:off x="3975120" y="3129480"/>
                  <a:ext cx="29808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rot="14418000">
                  <a:off x="4085280" y="29505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 rot="14418000">
                  <a:off x="4201200" y="29106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 rot="14418000">
                  <a:off x="4350240" y="2800080"/>
                  <a:ext cx="22824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rot="14418000">
                  <a:off x="4466160" y="2760120"/>
                  <a:ext cx="29808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rot="14418000">
                  <a:off x="4653000" y="2715120"/>
                  <a:ext cx="22824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rot="19818000">
                  <a:off x="3633480" y="2462760"/>
                  <a:ext cx="2057040" cy="1752480"/>
                </a:xfrm>
                <a:prstGeom prst="blockArc">
                  <a:avLst>
                    <a:gd name="adj1" fmla="val 12222482"/>
                    <a:gd name="adj2" fmla="val 20177518"/>
                    <a:gd name="adj3" fmla="val 14861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5" name=""/>
                <p:cNvGrpSpPr/>
                <p:nvPr/>
              </p:nvGrpSpPr>
              <p:grpSpPr>
                <a:xfrm>
                  <a:off x="3656160" y="3420000"/>
                  <a:ext cx="604440" cy="1049040"/>
                  <a:chOff x="3656160" y="3420000"/>
                  <a:chExt cx="604440" cy="1049040"/>
                </a:xfrm>
              </p:grpSpPr>
              <p:sp>
                <p:nvSpPr>
                  <p:cNvPr id="506" name=""/>
                  <p:cNvSpPr/>
                  <p:nvPr/>
                </p:nvSpPr>
                <p:spPr>
                  <a:xfrm rot="21330000">
                    <a:off x="3970080" y="35244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 rot="21330000">
                    <a:off x="3905640" y="368208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 rot="21330000">
                    <a:off x="3917880" y="383436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 rot="21330000">
                    <a:off x="4005720" y="398016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rot="21330000">
                    <a:off x="3941640" y="413784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 rot="21330000">
                    <a:off x="4029840" y="4284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 rot="5130600">
                    <a:off x="3332880" y="3792960"/>
                    <a:ext cx="102852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3" name=""/>
                <p:cNvGrpSpPr/>
                <p:nvPr/>
              </p:nvGrpSpPr>
              <p:grpSpPr>
                <a:xfrm>
                  <a:off x="5093640" y="2536560"/>
                  <a:ext cx="1036440" cy="871920"/>
                  <a:chOff x="5093640" y="2536560"/>
                  <a:chExt cx="1036440" cy="871920"/>
                </a:xfrm>
              </p:grpSpPr>
              <p:sp>
                <p:nvSpPr>
                  <p:cNvPr id="514" name=""/>
                  <p:cNvSpPr/>
                  <p:nvPr/>
                </p:nvSpPr>
                <p:spPr>
                  <a:xfrm rot="18075000">
                    <a:off x="5087880" y="285876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 rot="18075000">
                    <a:off x="5178600" y="300276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 rot="18075000">
                    <a:off x="5308920" y="30816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 rot="18075000">
                    <a:off x="5478480" y="30960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 rot="18075000">
                    <a:off x="5569200" y="32400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rot="18075000">
                    <a:off x="5739120" y="32540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 rot="1875000">
                    <a:off x="5097600" y="2781000"/>
                    <a:ext cx="1028520" cy="303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21" name=""/>
              <p:cNvGrpSpPr/>
              <p:nvPr/>
            </p:nvGrpSpPr>
            <p:grpSpPr>
              <a:xfrm>
                <a:off x="3571200" y="4193640"/>
                <a:ext cx="464760" cy="462960"/>
                <a:chOff x="3571200" y="4193640"/>
                <a:chExt cx="464760" cy="462960"/>
              </a:xfrm>
            </p:grpSpPr>
            <p:sp>
              <p:nvSpPr>
                <p:cNvPr id="522" name=""/>
                <p:cNvSpPr/>
                <p:nvPr/>
              </p:nvSpPr>
              <p:spPr>
                <a:xfrm rot="19818000">
                  <a:off x="3638880" y="4282920"/>
                  <a:ext cx="31860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rot="19818000">
                  <a:off x="3632040" y="425628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5850000" y="2805840"/>
                <a:ext cx="464760" cy="462960"/>
                <a:chOff x="5850000" y="2805840"/>
                <a:chExt cx="464760" cy="462960"/>
              </a:xfrm>
            </p:grpSpPr>
            <p:sp>
              <p:nvSpPr>
                <p:cNvPr id="525" name=""/>
                <p:cNvSpPr/>
                <p:nvPr/>
              </p:nvSpPr>
              <p:spPr>
                <a:xfrm rot="19818000">
                  <a:off x="5928840" y="288936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 rot="19818000">
                  <a:off x="5910840" y="286848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7" name=""/>
            <p:cNvSpPr/>
            <p:nvPr/>
          </p:nvSpPr>
          <p:spPr>
            <a:xfrm rot="20439600">
              <a:off x="6019920" y="2590560"/>
              <a:ext cx="2209680" cy="1981440"/>
            </a:xfrm>
            <a:prstGeom prst="hexagon">
              <a:avLst>
                <a:gd name="adj" fmla="val 27880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3051000" y="2020680"/>
            <a:ext cx="5753160" cy="2815920"/>
            <a:chOff x="3051000" y="2020680"/>
            <a:chExt cx="5753160" cy="2815920"/>
          </a:xfrm>
        </p:grpSpPr>
        <p:grpSp>
          <p:nvGrpSpPr>
            <p:cNvPr id="529" name=""/>
            <p:cNvGrpSpPr/>
            <p:nvPr/>
          </p:nvGrpSpPr>
          <p:grpSpPr>
            <a:xfrm>
              <a:off x="3051000" y="2437560"/>
              <a:ext cx="3376440" cy="2389680"/>
              <a:chOff x="3051000" y="2437560"/>
              <a:chExt cx="3376440" cy="2389680"/>
            </a:xfrm>
          </p:grpSpPr>
          <p:grpSp>
            <p:nvGrpSpPr>
              <p:cNvPr id="530" name=""/>
              <p:cNvGrpSpPr/>
              <p:nvPr/>
            </p:nvGrpSpPr>
            <p:grpSpPr>
              <a:xfrm>
                <a:off x="3222000" y="2437560"/>
                <a:ext cx="3026880" cy="2389680"/>
                <a:chOff x="3222000" y="2437560"/>
                <a:chExt cx="3026880" cy="2389680"/>
              </a:xfrm>
            </p:grpSpPr>
            <p:sp>
              <p:nvSpPr>
                <p:cNvPr id="531" name=""/>
                <p:cNvSpPr/>
                <p:nvPr/>
              </p:nvSpPr>
              <p:spPr>
                <a:xfrm rot="15168000">
                  <a:off x="4060800" y="329940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rot="15168000">
                  <a:off x="4208040" y="3141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 rot="15168000">
                  <a:off x="4329000" y="313488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 rot="15168000">
                  <a:off x="4499280" y="30513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rot="15168000">
                  <a:off x="4620240" y="3044880"/>
                  <a:ext cx="2984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 rot="15168000">
                  <a:off x="4812840" y="30344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 rot="20568000">
                  <a:off x="3453480" y="2755800"/>
                  <a:ext cx="2420640" cy="1752480"/>
                </a:xfrm>
                <a:prstGeom prst="blockArc">
                  <a:avLst>
                    <a:gd name="adj1" fmla="val 13102124"/>
                    <a:gd name="adj2" fmla="val 19297876"/>
                    <a:gd name="adj3" fmla="val 15417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8" name=""/>
                <p:cNvGrpSpPr/>
                <p:nvPr/>
              </p:nvGrpSpPr>
              <p:grpSpPr>
                <a:xfrm>
                  <a:off x="3222000" y="3366720"/>
                  <a:ext cx="868680" cy="1086120"/>
                  <a:chOff x="3222000" y="3366720"/>
                  <a:chExt cx="868680" cy="1086120"/>
                </a:xfrm>
              </p:grpSpPr>
              <p:sp>
                <p:nvSpPr>
                  <p:cNvPr id="539" name=""/>
                  <p:cNvSpPr/>
                  <p:nvPr/>
                </p:nvSpPr>
                <p:spPr>
                  <a:xfrm rot="1501800">
                    <a:off x="3857040" y="364284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 rot="1501800">
                    <a:off x="3723480" y="374832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 rot="1501800">
                    <a:off x="3658680" y="388656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 rot="1501800">
                    <a:off x="3663720" y="40572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 rot="1501800">
                    <a:off x="3530160" y="416268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 rot="1501800">
                    <a:off x="3534840" y="433332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 rot="6902400">
                    <a:off x="3062520" y="3745080"/>
                    <a:ext cx="102852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6" name=""/>
                <p:cNvGrpSpPr/>
                <p:nvPr/>
              </p:nvGrpSpPr>
              <p:grpSpPr>
                <a:xfrm>
                  <a:off x="5188320" y="2826000"/>
                  <a:ext cx="1060560" cy="808200"/>
                  <a:chOff x="5188320" y="2826000"/>
                  <a:chExt cx="1060560" cy="808200"/>
                </a:xfrm>
              </p:grpSpPr>
              <p:sp>
                <p:nvSpPr>
                  <p:cNvPr id="547" name=""/>
                  <p:cNvSpPr/>
                  <p:nvPr/>
                </p:nvSpPr>
                <p:spPr>
                  <a:xfrm rot="17697600">
                    <a:off x="5192640" y="31518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 rot="17697600">
                    <a:off x="5299200" y="32850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 rot="17697600">
                    <a:off x="5437080" y="33494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 rot="17697600">
                    <a:off x="5607000" y="334476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 rot="17697600">
                    <a:off x="5713560" y="34776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 rot="17697600">
                    <a:off x="5883480" y="34736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 rot="1497600">
                    <a:off x="5204160" y="3028680"/>
                    <a:ext cx="1028520" cy="303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54" name=""/>
              <p:cNvGrpSpPr/>
              <p:nvPr/>
            </p:nvGrpSpPr>
            <p:grpSpPr>
              <a:xfrm>
                <a:off x="3051000" y="4036320"/>
                <a:ext cx="427320" cy="423720"/>
                <a:chOff x="3051000" y="4036320"/>
                <a:chExt cx="427320" cy="423720"/>
              </a:xfrm>
            </p:grpSpPr>
            <p:sp>
              <p:nvSpPr>
                <p:cNvPr id="555" name=""/>
                <p:cNvSpPr/>
                <p:nvPr/>
              </p:nvSpPr>
              <p:spPr>
                <a:xfrm rot="20568000">
                  <a:off x="3097080" y="410472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 rot="20568000">
                  <a:off x="3093120" y="4079520"/>
                  <a:ext cx="343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6000120" y="2997360"/>
                <a:ext cx="427320" cy="423720"/>
                <a:chOff x="6000120" y="2997360"/>
                <a:chExt cx="427320" cy="423720"/>
              </a:xfrm>
            </p:grpSpPr>
            <p:sp>
              <p:nvSpPr>
                <p:cNvPr id="558" name=""/>
                <p:cNvSpPr/>
                <p:nvPr/>
              </p:nvSpPr>
              <p:spPr>
                <a:xfrm rot="20568000">
                  <a:off x="6058080" y="306180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 rot="20568000">
                  <a:off x="6042240" y="304056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60" name=""/>
            <p:cNvSpPr/>
            <p:nvPr/>
          </p:nvSpPr>
          <p:spPr>
            <a:xfrm rot="19816800">
              <a:off x="6248520" y="243792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2487600" y="2178360"/>
            <a:ext cx="6654240" cy="3098520"/>
            <a:chOff x="2487600" y="2178360"/>
            <a:chExt cx="6654240" cy="3098520"/>
          </a:xfrm>
        </p:grpSpPr>
        <p:grpSp>
          <p:nvGrpSpPr>
            <p:cNvPr id="562" name=""/>
            <p:cNvGrpSpPr/>
            <p:nvPr/>
          </p:nvGrpSpPr>
          <p:grpSpPr>
            <a:xfrm>
              <a:off x="2487600" y="3182400"/>
              <a:ext cx="4251600" cy="2094480"/>
              <a:chOff x="2487600" y="3182400"/>
              <a:chExt cx="4251600" cy="2094480"/>
            </a:xfrm>
          </p:grpSpPr>
          <p:grpSp>
            <p:nvGrpSpPr>
              <p:cNvPr id="563" name=""/>
              <p:cNvGrpSpPr/>
              <p:nvPr/>
            </p:nvGrpSpPr>
            <p:grpSpPr>
              <a:xfrm>
                <a:off x="2570400" y="3182400"/>
                <a:ext cx="4101120" cy="2094480"/>
                <a:chOff x="2570400" y="3182400"/>
                <a:chExt cx="4101120" cy="2094480"/>
              </a:xfrm>
            </p:grpSpPr>
            <p:sp>
              <p:nvSpPr>
                <p:cNvPr id="564" name=""/>
                <p:cNvSpPr/>
                <p:nvPr/>
              </p:nvSpPr>
              <p:spPr>
                <a:xfrm rot="15897000">
                  <a:off x="4074480" y="372672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 rot="15897000">
                  <a:off x="4254840" y="36234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 rot="15897000">
                  <a:off x="4373280" y="3648960"/>
                  <a:ext cx="2984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 rot="15897000">
                  <a:off x="4557960" y="35964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 rot="15897000">
                  <a:off x="4677120" y="362268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 rot="15897000">
                  <a:off x="4868640" y="36453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 rot="21297000">
                  <a:off x="2639520" y="3353400"/>
                  <a:ext cx="3962160" cy="1752480"/>
                </a:xfrm>
                <a:prstGeom prst="blockArc">
                  <a:avLst>
                    <a:gd name="adj1" fmla="val 14424157"/>
                    <a:gd name="adj2" fmla="val 17975843"/>
                    <a:gd name="adj3" fmla="val 15208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1" name=""/>
                <p:cNvGrpSpPr/>
                <p:nvPr/>
              </p:nvGrpSpPr>
              <p:grpSpPr>
                <a:xfrm>
                  <a:off x="2605680" y="3472200"/>
                  <a:ext cx="1299240" cy="1150200"/>
                  <a:chOff x="2605680" y="3472200"/>
                  <a:chExt cx="1299240" cy="1150200"/>
                </a:xfrm>
              </p:grpSpPr>
              <p:sp>
                <p:nvSpPr>
                  <p:cNvPr id="572" name=""/>
                  <p:cNvSpPr/>
                  <p:nvPr/>
                </p:nvSpPr>
                <p:spPr>
                  <a:xfrm rot="3391200">
                    <a:off x="3451680" y="40492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 rot="3391200">
                    <a:off x="3282840" y="406836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 rot="3391200">
                    <a:off x="3156120" y="41536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 rot="3391200">
                    <a:off x="3070440" y="429984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 rot="3391200">
                    <a:off x="2900520" y="432036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 rot="3391200">
                    <a:off x="2815920" y="446904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 rot="8791200">
                    <a:off x="2576520" y="3821040"/>
                    <a:ext cx="135720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9" name=""/>
                <p:cNvGrpSpPr/>
                <p:nvPr/>
              </p:nvGrpSpPr>
              <p:grpSpPr>
                <a:xfrm>
                  <a:off x="5239440" y="3356640"/>
                  <a:ext cx="1374120" cy="948600"/>
                  <a:chOff x="5239440" y="3356640"/>
                  <a:chExt cx="1374120" cy="948600"/>
                </a:xfrm>
              </p:grpSpPr>
              <p:sp>
                <p:nvSpPr>
                  <p:cNvPr id="580" name=""/>
                  <p:cNvSpPr/>
                  <p:nvPr/>
                </p:nvSpPr>
                <p:spPr>
                  <a:xfrm rot="17664600">
                    <a:off x="5557680" y="382536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 rot="17664600">
                    <a:off x="5663880" y="39582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 rot="17664600">
                    <a:off x="5802480" y="402192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 rot="17664600">
                    <a:off x="5973120" y="401472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 rot="17664600">
                    <a:off x="6080400" y="41482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 rot="17664600">
                    <a:off x="6251040" y="41410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 rot="1464600">
                    <a:off x="5240520" y="3626280"/>
                    <a:ext cx="137160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87" name=""/>
              <p:cNvGrpSpPr/>
              <p:nvPr/>
            </p:nvGrpSpPr>
            <p:grpSpPr>
              <a:xfrm>
                <a:off x="6368040" y="3696120"/>
                <a:ext cx="371160" cy="366120"/>
                <a:chOff x="6368040" y="3696120"/>
                <a:chExt cx="371160" cy="366120"/>
              </a:xfrm>
            </p:grpSpPr>
            <p:sp>
              <p:nvSpPr>
                <p:cNvPr id="588" name=""/>
                <p:cNvSpPr/>
                <p:nvPr/>
              </p:nvSpPr>
              <p:spPr>
                <a:xfrm rot="21297000">
                  <a:off x="6395400" y="373284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 rot="21297000">
                  <a:off x="6382080" y="371052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" name=""/>
              <p:cNvGrpSpPr/>
              <p:nvPr/>
            </p:nvGrpSpPr>
            <p:grpSpPr>
              <a:xfrm>
                <a:off x="2487600" y="3962520"/>
                <a:ext cx="373320" cy="366120"/>
                <a:chOff x="2487600" y="3962520"/>
                <a:chExt cx="373320" cy="366120"/>
              </a:xfrm>
            </p:grpSpPr>
            <p:sp>
              <p:nvSpPr>
                <p:cNvPr id="591" name=""/>
                <p:cNvSpPr/>
                <p:nvPr/>
              </p:nvSpPr>
              <p:spPr>
                <a:xfrm rot="21297000">
                  <a:off x="2500560" y="4000680"/>
                  <a:ext cx="31860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ff39"/>
                    </a:gs>
                    <a:gs pos="100000">
                      <a:srgbClr val="00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 rot="21297000">
                  <a:off x="2503800" y="397692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93" name=""/>
            <p:cNvSpPr/>
            <p:nvPr/>
          </p:nvSpPr>
          <p:spPr>
            <a:xfrm rot="18996600">
              <a:off x="6553080" y="2666520"/>
              <a:ext cx="2210040" cy="1981080"/>
            </a:xfrm>
            <a:prstGeom prst="hexagon">
              <a:avLst>
                <a:gd name="adj" fmla="val 27889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2438280" y="1858320"/>
            <a:ext cx="6418440" cy="3551400"/>
            <a:chOff x="2438280" y="1858320"/>
            <a:chExt cx="6418440" cy="3551400"/>
          </a:xfrm>
        </p:grpSpPr>
        <p:grpSp>
          <p:nvGrpSpPr>
            <p:cNvPr id="595" name=""/>
            <p:cNvGrpSpPr/>
            <p:nvPr/>
          </p:nvGrpSpPr>
          <p:grpSpPr>
            <a:xfrm>
              <a:off x="2438280" y="3657600"/>
              <a:ext cx="4381200" cy="1752120"/>
              <a:chOff x="2438280" y="3657600"/>
              <a:chExt cx="4381200" cy="1752120"/>
            </a:xfrm>
          </p:grpSpPr>
          <p:grpSp>
            <p:nvGrpSpPr>
              <p:cNvPr id="596" name=""/>
              <p:cNvGrpSpPr/>
              <p:nvPr/>
            </p:nvGrpSpPr>
            <p:grpSpPr>
              <a:xfrm>
                <a:off x="2559960" y="3657600"/>
                <a:ext cx="4161960" cy="1752120"/>
                <a:chOff x="2559960" y="3657600"/>
                <a:chExt cx="4161960" cy="1752120"/>
              </a:xfrm>
            </p:grpSpPr>
            <p:sp>
              <p:nvSpPr>
                <p:cNvPr id="597" name=""/>
                <p:cNvSpPr/>
                <p:nvPr/>
              </p:nvSpPr>
              <p:spPr>
                <a:xfrm rot="16200000">
                  <a:off x="4129560" y="40338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 rot="16200000">
                  <a:off x="4318560" y="39164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 rot="16200000">
                  <a:off x="4434480" y="395604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 rot="16200000">
                  <a:off x="4623480" y="391644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 rot="16200000">
                  <a:off x="4739040" y="395604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 rot="16200000">
                  <a:off x="4928040" y="39927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2652480" y="3657600"/>
                  <a:ext cx="3962160" cy="1752120"/>
                </a:xfrm>
                <a:prstGeom prst="blockArc">
                  <a:avLst>
                    <a:gd name="adj1" fmla="val 14424157"/>
                    <a:gd name="adj2" fmla="val 17975843"/>
                    <a:gd name="adj3" fmla="val 15208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4" name=""/>
                <p:cNvGrpSpPr/>
                <p:nvPr/>
              </p:nvGrpSpPr>
              <p:grpSpPr>
                <a:xfrm>
                  <a:off x="2559960" y="3718080"/>
                  <a:ext cx="1389960" cy="767520"/>
                  <a:chOff x="2559960" y="3718080"/>
                  <a:chExt cx="1389960" cy="767520"/>
                </a:xfrm>
              </p:grpSpPr>
              <p:sp>
                <p:nvSpPr>
                  <p:cNvPr id="605" name=""/>
                  <p:cNvSpPr/>
                  <p:nvPr/>
                </p:nvSpPr>
                <p:spPr>
                  <a:xfrm rot="4734000">
                    <a:off x="3384720" y="41828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 rot="4734000">
                    <a:off x="3221280" y="413676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 rot="4734000">
                    <a:off x="3071880" y="4167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 rot="4734000">
                    <a:off x="2936880" y="426996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 rot="4734000">
                    <a:off x="2772000" y="42242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 rot="4734000">
                    <a:off x="2637000" y="4329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 rot="10134000">
                    <a:off x="2576160" y="3845520"/>
                    <a:ext cx="13572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2" name=""/>
                <p:cNvGrpSpPr/>
                <p:nvPr/>
              </p:nvGrpSpPr>
              <p:grpSpPr>
                <a:xfrm>
                  <a:off x="5317200" y="3708720"/>
                  <a:ext cx="1404720" cy="754920"/>
                  <a:chOff x="5317200" y="3708720"/>
                  <a:chExt cx="1404720" cy="754920"/>
                </a:xfrm>
              </p:grpSpPr>
              <p:sp>
                <p:nvSpPr>
                  <p:cNvPr id="613" name=""/>
                  <p:cNvSpPr/>
                  <p:nvPr/>
                </p:nvSpPr>
                <p:spPr>
                  <a:xfrm rot="16936200">
                    <a:off x="5673960" y="410184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 rot="16936200">
                    <a:off x="5806080" y="42084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 rot="16936200">
                    <a:off x="5955120" y="424152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 rot="16936200">
                    <a:off x="6120360" y="41986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 rot="16936200">
                    <a:off x="6253560" y="43066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 rot="16936200">
                    <a:off x="6418800" y="42638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 rot="736200">
                    <a:off x="5333760" y="3850920"/>
                    <a:ext cx="13716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20" name=""/>
              <p:cNvGrpSpPr/>
              <p:nvPr/>
            </p:nvGrpSpPr>
            <p:grpSpPr>
              <a:xfrm>
                <a:off x="2438280" y="3747960"/>
                <a:ext cx="347760" cy="337320"/>
                <a:chOff x="2438280" y="3747960"/>
                <a:chExt cx="347760" cy="33732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2438280" y="376992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ff39"/>
                    </a:gs>
                    <a:gs pos="100000">
                      <a:srgbClr val="00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2442960" y="3747960"/>
                  <a:ext cx="343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"/>
              <p:cNvGrpSpPr/>
              <p:nvPr/>
            </p:nvGrpSpPr>
            <p:grpSpPr>
              <a:xfrm>
                <a:off x="6476760" y="3747960"/>
                <a:ext cx="342720" cy="337320"/>
                <a:chOff x="6476760" y="3747960"/>
                <a:chExt cx="342720" cy="33732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6489360" y="376992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6476760" y="374796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26" name=""/>
            <p:cNvSpPr/>
            <p:nvPr/>
          </p:nvSpPr>
          <p:spPr>
            <a:xfrm rot="17422200">
              <a:off x="6438600" y="224820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2133720" y="1747440"/>
            <a:ext cx="6589800" cy="3122640"/>
            <a:chOff x="2133720" y="1747440"/>
            <a:chExt cx="6589800" cy="3122640"/>
          </a:xfrm>
        </p:grpSpPr>
        <p:grpSp>
          <p:nvGrpSpPr>
            <p:cNvPr id="628" name=""/>
            <p:cNvGrpSpPr/>
            <p:nvPr/>
          </p:nvGrpSpPr>
          <p:grpSpPr>
            <a:xfrm>
              <a:off x="2133720" y="2895480"/>
              <a:ext cx="4585680" cy="1974600"/>
              <a:chOff x="2133720" y="2895480"/>
              <a:chExt cx="4585680" cy="1974600"/>
            </a:xfrm>
          </p:grpSpPr>
          <p:grpSp>
            <p:nvGrpSpPr>
              <p:cNvPr id="629" name=""/>
              <p:cNvGrpSpPr/>
              <p:nvPr/>
            </p:nvGrpSpPr>
            <p:grpSpPr>
              <a:xfrm>
                <a:off x="2534400" y="2895480"/>
                <a:ext cx="4164120" cy="1974600"/>
                <a:chOff x="2534400" y="2895480"/>
                <a:chExt cx="4164120" cy="1974600"/>
              </a:xfrm>
            </p:grpSpPr>
            <p:sp>
              <p:nvSpPr>
                <p:cNvPr id="630" name=""/>
                <p:cNvSpPr/>
                <p:nvPr/>
              </p:nvSpPr>
              <p:spPr>
                <a:xfrm rot="16200000">
                  <a:off x="4140720" y="46836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rot="16200000">
                  <a:off x="4329720" y="46296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rot="16200000">
                  <a:off x="4445640" y="4669200"/>
                  <a:ext cx="29808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 rot="16200000">
                  <a:off x="4634280" y="46296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 rot="16200000">
                  <a:off x="4750200" y="46692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 rot="16200000">
                  <a:off x="4939200" y="47055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flipV="1">
                  <a:off x="2619000" y="2894760"/>
                  <a:ext cx="3962520" cy="1752120"/>
                </a:xfrm>
                <a:prstGeom prst="blockArc">
                  <a:avLst>
                    <a:gd name="adj1" fmla="val 14424157"/>
                    <a:gd name="adj2" fmla="val 17975843"/>
                    <a:gd name="adj3" fmla="val 15208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37" name=""/>
                <p:cNvGrpSpPr/>
                <p:nvPr/>
              </p:nvGrpSpPr>
              <p:grpSpPr>
                <a:xfrm>
                  <a:off x="2534400" y="4006440"/>
                  <a:ext cx="1390680" cy="710640"/>
                  <a:chOff x="2534400" y="4006440"/>
                  <a:chExt cx="1390680" cy="710640"/>
                </a:xfrm>
              </p:grpSpPr>
              <p:sp>
                <p:nvSpPr>
                  <p:cNvPr id="638" name=""/>
                  <p:cNvSpPr/>
                  <p:nvPr/>
                </p:nvSpPr>
                <p:spPr>
                  <a:xfrm rot="6124800">
                    <a:off x="3252240" y="456012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 rot="6124800">
                    <a:off x="3120120" y="445356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 rot="6124800">
                    <a:off x="2971080" y="44222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 rot="6124800">
                    <a:off x="2806200" y="4464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 rot="6124800">
                    <a:off x="2672640" y="43570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 rot="6124800">
                    <a:off x="2507400" y="44002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 rot="11525400">
                    <a:off x="2550960" y="4144680"/>
                    <a:ext cx="13572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5" name=""/>
                <p:cNvGrpSpPr/>
                <p:nvPr/>
              </p:nvGrpSpPr>
              <p:grpSpPr>
                <a:xfrm>
                  <a:off x="5297760" y="3901680"/>
                  <a:ext cx="1400760" cy="723240"/>
                  <a:chOff x="5297760" y="3901680"/>
                  <a:chExt cx="1400760" cy="723240"/>
                </a:xfrm>
              </p:grpSpPr>
              <p:sp>
                <p:nvSpPr>
                  <p:cNvPr id="646" name=""/>
                  <p:cNvSpPr/>
                  <p:nvPr/>
                </p:nvSpPr>
                <p:spPr>
                  <a:xfrm rot="15196800">
                    <a:off x="5747760" y="443808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 rot="15196800">
                    <a:off x="5914800" y="44676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 rot="15196800">
                    <a:off x="6061320" y="44244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 rot="15196800">
                    <a:off x="6184800" y="43070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 rot="15196800">
                    <a:off x="6353640" y="433692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 rot="15196800">
                    <a:off x="6477480" y="42192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 rot="20596800">
                    <a:off x="5312160" y="4092480"/>
                    <a:ext cx="13716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53" name=""/>
              <p:cNvGrpSpPr/>
              <p:nvPr/>
            </p:nvGrpSpPr>
            <p:grpSpPr>
              <a:xfrm>
                <a:off x="6376680" y="3701880"/>
                <a:ext cx="342720" cy="337320"/>
                <a:chOff x="6376680" y="3701880"/>
                <a:chExt cx="342720" cy="33732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6389280" y="372384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6376680" y="370188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6" name=""/>
              <p:cNvGrpSpPr/>
              <p:nvPr/>
            </p:nvGrpSpPr>
            <p:grpSpPr>
              <a:xfrm>
                <a:off x="2133720" y="3504960"/>
                <a:ext cx="966600" cy="972720"/>
                <a:chOff x="2133720" y="3504960"/>
                <a:chExt cx="966600" cy="972720"/>
              </a:xfrm>
            </p:grpSpPr>
            <p:sp>
              <p:nvSpPr>
                <p:cNvPr id="657" name=""/>
                <p:cNvSpPr/>
                <p:nvPr/>
              </p:nvSpPr>
              <p:spPr>
                <a:xfrm>
                  <a:off x="2133720" y="3504960"/>
                  <a:ext cx="966600" cy="972720"/>
                </a:xfrm>
                <a:prstGeom prst="sun">
                  <a:avLst>
                    <a:gd name="adj" fmla="val 33333"/>
                  </a:avLst>
                </a:prstGeom>
                <a:gradFill rotWithShape="0">
                  <a:gsLst>
                    <a:gs pos="0">
                      <a:srgbClr val="39ff39"/>
                    </a:gs>
                    <a:gs pos="100000">
                      <a:srgbClr val="00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2465280" y="3814200"/>
                  <a:ext cx="34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9" name=""/>
            <p:cNvSpPr/>
            <p:nvPr/>
          </p:nvSpPr>
          <p:spPr>
            <a:xfrm rot="20439600">
              <a:off x="6248160" y="2057400"/>
              <a:ext cx="2209680" cy="1981440"/>
            </a:xfrm>
            <a:prstGeom prst="hexagon">
              <a:avLst>
                <a:gd name="adj" fmla="val 27880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60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/>
          <p:nvPr/>
        </p:nvSpPr>
        <p:spPr>
          <a:xfrm>
            <a:off x="914400" y="5715000"/>
            <a:ext cx="7772400" cy="8254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t dyes excellent quenchers, silver nanoparticles contribute additionally to the quench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  <p:sp>
        <p:nvSpPr>
          <p:cNvPr id="663" name=""/>
          <p:cNvSpPr/>
          <p:nvPr/>
        </p:nvSpPr>
        <p:spPr>
          <a:xfrm>
            <a:off x="2362320" y="304920"/>
            <a:ext cx="5029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RRS beac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64" name=""/>
          <p:cNvGraphicFramePr/>
          <p:nvPr/>
        </p:nvGraphicFramePr>
        <p:xfrm>
          <a:off x="838080" y="1066680"/>
          <a:ext cx="5562720" cy="2667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066680"/>
                    <a:ext cx="556272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6" name=""/>
          <p:cNvGraphicFramePr/>
          <p:nvPr/>
        </p:nvGraphicFramePr>
        <p:xfrm>
          <a:off x="685800" y="3886200"/>
          <a:ext cx="5638680" cy="29718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3886200"/>
                    <a:ext cx="56386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8" name=""/>
          <p:cNvGraphicFramePr/>
          <p:nvPr/>
        </p:nvGraphicFramePr>
        <p:xfrm>
          <a:off x="7162920" y="1143000"/>
          <a:ext cx="1447560" cy="1981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162920" y="1143000"/>
                    <a:ext cx="144756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0" name=""/>
          <p:cNvGraphicFramePr/>
          <p:nvPr/>
        </p:nvGraphicFramePr>
        <p:xfrm>
          <a:off x="7315200" y="4191120"/>
          <a:ext cx="1219320" cy="2286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7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315200" y="4191120"/>
                    <a:ext cx="121932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2" name=""/>
          <p:cNvSpPr/>
          <p:nvPr/>
        </p:nvSpPr>
        <p:spPr>
          <a:xfrm>
            <a:off x="2743200" y="8380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losed beacon on the Ag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8153280" y="327672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477120" y="3429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arget D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095880" y="1371600"/>
            <a:ext cx="91440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 flipV="1">
            <a:off x="6400440" y="5334120"/>
            <a:ext cx="762120" cy="304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880920" cy="121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8" name=""/>
          <p:cNvGraphicFramePr/>
          <p:nvPr/>
        </p:nvGraphicFramePr>
        <p:xfrm>
          <a:off x="762120" y="990720"/>
          <a:ext cx="7677000" cy="4790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990720"/>
                    <a:ext cx="7677000" cy="47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0" name=""/>
          <p:cNvSpPr/>
          <p:nvPr/>
        </p:nvSpPr>
        <p:spPr>
          <a:xfrm>
            <a:off x="2209680" y="15238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724280" y="1523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ngle base mismat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620120" y="1752480"/>
            <a:ext cx="4572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352680" y="1752480"/>
            <a:ext cx="533520" cy="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990720" y="3049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ERRS beacon in the presence of control and single base mismatched olig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33520" y="5715000"/>
            <a:ext cx="8381880" cy="825480"/>
          </a:xfrm>
          <a:prstGeom prst="rect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xcellent specificity for target DNA, range of SERRS dyes available for labelling, many possible quencher-flurophore pai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990720" y="685800"/>
            <a:ext cx="2514600" cy="5814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nclus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85800" y="1371600"/>
            <a:ext cx="81532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Novel SERRS active substrates character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Oligo successfully labelled with SERRS active dye and detected at 10</a:t>
            </a:r>
            <a:r>
              <a:rPr b="0" lang="en-GB" sz="2400" spc="-1" strike="noStrike" baseline="30000">
                <a:solidFill>
                  <a:srgbClr val="ffff00"/>
                </a:solidFill>
                <a:latin typeface="Times New Roman"/>
              </a:rPr>
              <a:t>-17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mo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RRS spectra of dye maleimide differs from spectra of oligo cycloadduct enabling the analysis of the oligo </a:t>
            </a: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in situ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and in the presence of the starting material without separ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ND THE MOST IMPORTAN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8" name="DNA" descr=""/>
          <p:cNvPicPr/>
          <p:nvPr/>
        </p:nvPicPr>
        <p:blipFill>
          <a:blip r:embed="rId6"/>
          <a:stretch/>
        </p:blipFill>
        <p:spPr>
          <a:xfrm>
            <a:off x="0" y="228600"/>
            <a:ext cx="838080" cy="1371600"/>
          </a:xfrm>
          <a:prstGeom prst="rect">
            <a:avLst/>
          </a:prstGeom>
          <a:ln w="0">
            <a:noFill/>
          </a:ln>
        </p:spPr>
      </p:pic>
      <p:sp>
        <p:nvSpPr>
          <p:cNvPr id="689" name=""/>
          <p:cNvSpPr/>
          <p:nvPr/>
        </p:nvSpPr>
        <p:spPr>
          <a:xfrm>
            <a:off x="609480" y="5257800"/>
            <a:ext cx="8153640" cy="83808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09480" y="5257800"/>
            <a:ext cx="82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olecular beacons designed  enabling the new advances in biotechn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762120"/>
            <a:ext cx="5943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st human genome 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dentification of genetic dise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33920" y="182880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2438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creening of large number of DNA sequences – DNA arrays (fluorescence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9880" y="320040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40384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85800" y="4495680"/>
            <a:ext cx="3047760" cy="1610280"/>
            <a:chOff x="685800" y="4495680"/>
            <a:chExt cx="3047760" cy="1610280"/>
          </a:xfrm>
        </p:grpSpPr>
        <p:sp>
          <p:nvSpPr>
            <p:cNvPr id="58" name=""/>
            <p:cNvSpPr/>
            <p:nvPr/>
          </p:nvSpPr>
          <p:spPr>
            <a:xfrm>
              <a:off x="3327480" y="4495680"/>
              <a:ext cx="406080" cy="457200"/>
            </a:xfrm>
            <a:custGeom>
              <a:avLst/>
              <a:gdLst>
                <a:gd name="textAreaLeft" fmla="*/ 54360 w 406080"/>
                <a:gd name="textAreaRight" fmla="*/ 351720 w 40608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5800" y="4724280"/>
              <a:ext cx="284472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Complex chemistry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reduced biological activity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4267080" y="4495680"/>
            <a:ext cx="4190760" cy="1496160"/>
            <a:chOff x="4267080" y="4495680"/>
            <a:chExt cx="4190760" cy="1496160"/>
          </a:xfrm>
        </p:grpSpPr>
        <p:sp>
          <p:nvSpPr>
            <p:cNvPr id="61" name=""/>
            <p:cNvSpPr/>
            <p:nvPr/>
          </p:nvSpPr>
          <p:spPr>
            <a:xfrm>
              <a:off x="4267080" y="4495680"/>
              <a:ext cx="304560" cy="457200"/>
            </a:xfrm>
            <a:custGeom>
              <a:avLst/>
              <a:gdLst>
                <a:gd name="textAreaLeft" fmla="*/ 40680 w 304560"/>
                <a:gd name="textAreaRight" fmla="*/ 263880 w 30456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647960" y="4800600"/>
              <a:ext cx="3809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Times New Roman"/>
                </a:rPr>
                <a:t>Separation of a label and labelled oligo prior to dete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3" name="DNA" descr=""/>
          <p:cNvPicPr/>
          <p:nvPr/>
        </p:nvPicPr>
        <p:blipFill>
          <a:blip r:embed="rId4"/>
          <a:stretch/>
        </p:blipFill>
        <p:spPr>
          <a:xfrm>
            <a:off x="0" y="152280"/>
            <a:ext cx="1066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254160" y="12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2" name="hr" descr=""/>
          <p:cNvPicPr/>
          <p:nvPr/>
        </p:nvPicPr>
        <p:blipFill>
          <a:blip r:embed="rId2"/>
          <a:stretch/>
        </p:blipFill>
        <p:spPr>
          <a:xfrm>
            <a:off x="914400" y="685800"/>
            <a:ext cx="3962520" cy="2286000"/>
          </a:xfrm>
          <a:prstGeom prst="rect">
            <a:avLst/>
          </a:prstGeom>
          <a:ln w="0">
            <a:noFill/>
          </a:ln>
        </p:spPr>
      </p:pic>
      <p:sp>
        <p:nvSpPr>
          <p:cNvPr id="693" name=""/>
          <p:cNvSpPr/>
          <p:nvPr/>
        </p:nvSpPr>
        <p:spPr>
          <a:xfrm flipV="1">
            <a:off x="2590920" y="456840"/>
            <a:ext cx="1295280" cy="6094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886200" y="1522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jilja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181480" y="228600"/>
            <a:ext cx="3657600" cy="67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0 things to know about  Croat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230 isl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7 National Par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5  Top Models at the mo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Successful in sport (football, handball, skiing, waterpolo champion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Two Nobel Prize Winners in Chemist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One Wimbeldon Win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The Home country of  the T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Home of Goran Visnj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Leading centre for animated mov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Home of excellent cuis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907320" y="2857680"/>
            <a:ext cx="3571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7" name="grb-small" descr=""/>
          <p:cNvPicPr/>
          <p:nvPr/>
        </p:nvPicPr>
        <p:blipFill>
          <a:blip r:embed="rId3"/>
          <a:stretch/>
        </p:blipFill>
        <p:spPr>
          <a:xfrm>
            <a:off x="0" y="0"/>
            <a:ext cx="90324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8" name=""/>
          <p:cNvGraphicFramePr/>
          <p:nvPr/>
        </p:nvGraphicFramePr>
        <p:xfrm>
          <a:off x="304920" y="3124080"/>
          <a:ext cx="2133360" cy="1600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3124080"/>
                    <a:ext cx="213336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0" name="lighthouse" descr=""/>
          <p:cNvPicPr/>
          <p:nvPr/>
        </p:nvPicPr>
        <p:blipFill>
          <a:blip r:embed="rId6"/>
          <a:stretch/>
        </p:blipFill>
        <p:spPr>
          <a:xfrm>
            <a:off x="228600" y="4876920"/>
            <a:ext cx="2343240" cy="1703160"/>
          </a:xfrm>
          <a:prstGeom prst="rect">
            <a:avLst/>
          </a:prstGeom>
          <a:ln w="0">
            <a:noFill/>
          </a:ln>
        </p:spPr>
      </p:pic>
      <p:pic>
        <p:nvPicPr>
          <p:cNvPr id="701" name="fallsfromabove" descr=""/>
          <p:cNvPicPr/>
          <p:nvPr/>
        </p:nvPicPr>
        <p:blipFill>
          <a:blip r:embed="rId7"/>
          <a:stretch/>
        </p:blipFill>
        <p:spPr>
          <a:xfrm>
            <a:off x="2666880" y="3200400"/>
            <a:ext cx="242892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219320" y="2438280"/>
            <a:ext cx="6858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lu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urface Enhanced Resonance Raman Scatter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1066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62120" y="5029200"/>
            <a:ext cx="7848360" cy="119124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iologically important molecules including DNA are not SERRS active and have to be labelled with SERRS active species prior to detec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609480"/>
            <a:ext cx="7238880" cy="46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rface Enhanced Resonance Raman Scatt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quires adsorption of the species on the metal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tive species have chromophores that match the laser excitation frequency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visible laser usually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luorescence is quench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tection limits lowered compared to other techn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DNA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14400" y="11430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NA has to be labelled with SERRS active spe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381240" cy="609480"/>
          </a:xfrm>
          <a:custGeom>
            <a:avLst/>
            <a:gdLst>
              <a:gd name="textAreaLeft" fmla="*/ 51120 w 381240"/>
              <a:gd name="textAreaRight" fmla="*/ 330120 w 38124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57800" y="1600200"/>
            <a:ext cx="380880" cy="685800"/>
          </a:xfrm>
          <a:custGeom>
            <a:avLst/>
            <a:gdLst>
              <a:gd name="textAreaLeft" fmla="*/ 50760 w 380880"/>
              <a:gd name="textAreaRight" fmla="*/ 330120 w 38088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57400" y="2438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els Alder cycloadd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35053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i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5412000">
            <a:off x="3619440" y="2781360"/>
            <a:ext cx="534960" cy="1982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19920" y="3429000"/>
            <a:ext cx="2286000" cy="685800"/>
          </a:xfrm>
          <a:prstGeom prst="can">
            <a:avLst>
              <a:gd name="adj" fmla="val 25000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ycload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350532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Dienop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3581280"/>
            <a:ext cx="41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4191120"/>
            <a:ext cx="23619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Not SERRS active (oligo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95480" y="41911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(benzotriazole dy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943600" y="43434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oli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29200" y="38098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" name="DNA" descr=""/>
          <p:cNvPicPr/>
          <p:nvPr/>
        </p:nvPicPr>
        <p:blipFill>
          <a:blip r:embed="rId2"/>
          <a:stretch/>
        </p:blipFill>
        <p:spPr>
          <a:xfrm>
            <a:off x="0" y="15228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470400" y="2743200"/>
            <a:ext cx="6480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9720" bIns="9720" anchor="t">
            <a:spAutoFit/>
          </a:bodyPr>
          <a:p>
            <a:pPr>
              <a:spcBef>
                <a:spcPts val="150"/>
              </a:spcBef>
              <a:buClr>
                <a:srgbClr val="006600"/>
              </a:buClr>
              <a:buFont typeface="Times New Roman"/>
              <a:buChar char="•"/>
              <a:tabLst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85800" y="3809880"/>
          <a:ext cx="8229600" cy="212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3809880"/>
                    <a:ext cx="8229600" cy="21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5486400" y="4267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DC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43400" y="4343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91120" y="4876920"/>
            <a:ext cx="236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2. Co naphthenate, Ac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43000" y="457200"/>
            <a:ext cx="762012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ERRS active dienophile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sts of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benzotriazole group (BT)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surface attachment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chromophor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azo gro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maleimide group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undergo  Diels Alder reaction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640080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DNA" descr=""/>
          <p:cNvPicPr/>
          <p:nvPr/>
        </p:nvPicPr>
        <p:blipFill>
          <a:blip r:embed="rId4"/>
          <a:stretch/>
        </p:blipFill>
        <p:spPr>
          <a:xfrm>
            <a:off x="0" y="228600"/>
            <a:ext cx="1219320" cy="1371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752480" y="6095880"/>
            <a:ext cx="5867640" cy="45972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4 different BT dye maleimides synthes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609480" y="2133720"/>
          <a:ext cx="5029200" cy="2381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133720"/>
                    <a:ext cx="5029200" cy="23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 rot="20046000">
            <a:off x="7086240" y="2057040"/>
            <a:ext cx="291960" cy="82692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876920" y="2666880"/>
          <a:ext cx="3209760" cy="1335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76920" y="2666880"/>
                    <a:ext cx="3209760" cy="13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143000" y="4273560"/>
            <a:ext cx="106668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ffff"/>
                </a:solidFill>
                <a:latin typeface="Times New Roman"/>
              </a:rPr>
              <a:t>DCM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 rot="5458800">
            <a:off x="5837040" y="2772720"/>
            <a:ext cx="108000" cy="126684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265640"/>
            <a:ext cx="760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25909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CDI, DMF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66880" y="4186080"/>
            <a:ext cx="504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304920"/>
            <a:ext cx="723888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ligonucleotide die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 base synthetic oligo used - 5’TCTCAACTCG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ified with fura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i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mino li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DNA" descr=""/>
          <p:cNvPicPr/>
          <p:nvPr/>
        </p:nvPicPr>
        <p:blipFill>
          <a:blip r:embed="rId6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62120" y="441972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odifed with butadiene phosphoramidate during automated synthe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743200" y="5638680"/>
          <a:ext cx="5715000" cy="63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43200" y="5638680"/>
                    <a:ext cx="571500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2394000" y="5326200"/>
          <a:ext cx="5958000" cy="1387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94000" y="5326200"/>
                    <a:ext cx="5958000" cy="13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 flipV="1" rot="5458800">
            <a:off x="2865240" y="5058720"/>
            <a:ext cx="108000" cy="126684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429000" y="5562720"/>
          <a:ext cx="1447920" cy="276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29000" y="5562720"/>
                    <a:ext cx="144792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905120" y="2286000"/>
            <a:ext cx="447480" cy="380880"/>
          </a:xfrm>
          <a:prstGeom prst="flowChartConnector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rot="1815000">
            <a:off x="4038120" y="1447920"/>
            <a:ext cx="366840" cy="121896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00400" y="2438280"/>
            <a:ext cx="563400" cy="2192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2367200">
            <a:off x="6180840" y="1296360"/>
            <a:ext cx="295560" cy="114300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638680" y="2286000"/>
            <a:ext cx="447840" cy="409680"/>
          </a:xfrm>
          <a:prstGeom prst="flowChartConnector">
            <a:avLst/>
          </a:prstGeom>
          <a:solidFill>
            <a:srgbClr val="8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23623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3400" y="2438280"/>
            <a:ext cx="900000" cy="5040"/>
          </a:xfrm>
          <a:prstGeom prst="line">
            <a:avLst/>
          </a:prstGeom>
          <a:ln w="6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324480" y="3809880"/>
            <a:ext cx="2590920" cy="7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 Oligo fur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2 Oligo cycloadduct</a:t>
            </a:r>
            <a:r>
              <a:rPr b="0" lang="en-GB" sz="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0"/>
            <a:ext cx="8153280" cy="15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Diels Alder Cycloaddition of the Dye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Oligonucleot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hosphate buffer (pH = 5.5), 30% C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N, 40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743200" y="2895480"/>
          <a:ext cx="3971880" cy="3686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2895480"/>
                    <a:ext cx="3971880" cy="36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685800" y="3124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PLC 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5335800">
            <a:off x="1294920" y="3809880"/>
            <a:ext cx="838080" cy="533160"/>
          </a:xfrm>
          <a:custGeom>
            <a:avLst/>
            <a:gdLst>
              <a:gd name="textAreaLeft" fmla="*/ 279360 w 838080"/>
              <a:gd name="textAreaRight" fmla="*/ 717840 w 838080"/>
              <a:gd name="textAreaTop" fmla="*/ 307080 h 533160"/>
              <a:gd name="textAreaBottom" fmla="*/ 4568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DNA" descr=""/>
          <p:cNvPicPr/>
          <p:nvPr/>
        </p:nvPicPr>
        <p:blipFill>
          <a:blip r:embed="rId5"/>
          <a:stretch/>
        </p:blipFill>
        <p:spPr>
          <a:xfrm>
            <a:off x="0" y="38088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3809880"/>
            <a:ext cx="17524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489800">
            <a:off x="685440" y="762120"/>
            <a:ext cx="1295280" cy="685800"/>
          </a:xfrm>
          <a:prstGeom prst="lightningBol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124080" y="3505320"/>
            <a:ext cx="1371600" cy="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19320" y="3733920"/>
            <a:ext cx="1752480" cy="7596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371600" y="1828800"/>
            <a:ext cx="1371600" cy="1905120"/>
            <a:chOff x="1371600" y="1828800"/>
            <a:chExt cx="1371600" cy="1905120"/>
          </a:xfrm>
        </p:grpSpPr>
        <p:sp>
          <p:nvSpPr>
            <p:cNvPr id="132" name=""/>
            <p:cNvSpPr/>
            <p:nvPr/>
          </p:nvSpPr>
          <p:spPr>
            <a:xfrm>
              <a:off x="1371600" y="1828800"/>
              <a:ext cx="30492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86000" y="1828800"/>
              <a:ext cx="22860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4479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623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1828800" y="411480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48006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g -PVA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724280" y="1523880"/>
          <a:ext cx="4027680" cy="4191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24280" y="1523880"/>
                    <a:ext cx="40276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0" name="DNA" descr=""/>
          <p:cNvPicPr/>
          <p:nvPr/>
        </p:nvPicPr>
        <p:blipFill>
          <a:blip r:embed="rId4"/>
          <a:stretch/>
        </p:blipFill>
        <p:spPr>
          <a:xfrm>
            <a:off x="0" y="152280"/>
            <a:ext cx="914400" cy="1371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905120" y="45720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ERRS Detection of Labelled Olig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29200" y="586728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05520" y="6019920"/>
            <a:ext cx="3200400" cy="459720"/>
          </a:xfrm>
          <a:prstGeom prst="rect">
            <a:avLst/>
          </a:prstGeom>
          <a:solidFill>
            <a:srgbClr val="808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tected in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1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o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4T18:49:49Z</dcterms:created>
  <dc:creator>Dr Duncan Graham</dc:creator>
  <dc:description/>
  <dc:language>en-US</dc:language>
  <cp:lastModifiedBy>Duncan Graham</cp:lastModifiedBy>
  <dcterms:modified xsi:type="dcterms:W3CDTF">2003-06-18T09:51:24Z</dcterms:modified>
  <cp:revision>52</cp:revision>
  <dc:subject/>
  <dc:title>PowerPoint Presentation</dc:title>
</cp:coreProperties>
</file>